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DFB07-C46E-46AD-B5A7-956A8221F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D8B92-EEF7-4E2B-BD41-419B561B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E7533-BCAB-4521-85E2-C2E1DBB4D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61DD3-0C85-46E7-A1A8-A77C13462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4D5A3-FCAD-4768-8FA6-B63943868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FE857-A2E9-4BB7-9899-8E4A426F9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4A371-86D2-484E-868F-9C37DB80D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28AA9-CC51-4077-82E5-11A11101E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A09EF-0A32-4195-81D7-ADB1433CB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32686-D701-4D4E-9BFC-1B5FC1E39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31D34-3B7E-42A4-8323-286A93C4F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5F935-16FC-470F-B711-25E5A24D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0ED02-F5EE-4083-98FD-C1F4026FC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287E6-578D-4377-BF30-FDD9BDC2B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5D27B-6E2E-4F60-B5BF-18764502E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0AE92-EEAF-42AB-8E34-EE60431C6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094F4-5172-4D19-82A2-398704BA2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0B6A2-D7C2-4260-9D83-006DB4464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E5C9-B975-4F0F-AEAC-8EE4F84E0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D6D51-0C98-4023-9997-411572F8A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2C7B1-ACAC-46E6-AD87-FE8499374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4A3AC-A82E-4BBD-B26C-63C4B969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86A6-77FA-4C5F-9229-0822C6B8C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40AC-E267-4C8D-8D02-C2032E86A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FDEF-2473-4FF8-B85C-809C49F7DB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1CC3-E19D-4C15-B530-67A68416E0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TM7203</a:t>
            </a:r>
            <a:br>
              <a:rPr sz="4000"/>
            </a:br>
            <a:r>
              <a:rPr b="0" lang="en-US" sz="4000" spc="-1" strike="noStrike">
                <a:solidFill>
                  <a:srgbClr val="000000"/>
                </a:solidFill>
                <a:latin typeface="Arial"/>
              </a:rPr>
              <a:t>Behavioural Optometry Module 2</a:t>
            </a:r>
            <a:endParaRPr b="0" lang="en-US" sz="4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Report TJ</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 Therapy continued.</a:t>
            </a:r>
            <a:endParaRPr b="0" lang="en-US" sz="3800" spc="-1" strike="noStrike">
              <a:solidFill>
                <a:srgbClr val="000000"/>
              </a:solidFill>
              <a:latin typeface="Arial"/>
            </a:endParaRPr>
          </a:p>
        </p:txBody>
      </p:sp>
      <p:sp>
        <p:nvSpPr>
          <p:cNvPr id="113"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ssues as TJ is 4 years 2 months; maturity and the limited ability to follow directions restricts the amount of active vision therapy.</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tick in the straw/cheezel/burger ring/tasty tube/donut</a:t>
            </a: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Abduction Callisthenics – in the case of TJ, covering the nonstrabismic eye, and bringing an object of interest into view from behind the ear</a:t>
            </a:r>
            <a:endParaRPr b="0" lang="en-US" sz="2100" spc="-1" strike="noStrike">
              <a:solidFill>
                <a:srgbClr val="000000"/>
              </a:solidFill>
              <a:latin typeface="Arial"/>
            </a:endParaRPr>
          </a:p>
          <a:p>
            <a:pPr lvl="1" marL="743040" indent="-285840">
              <a:lnSpc>
                <a:spcPct val="8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Primarily working on the function of the medial rectus.</a:t>
            </a:r>
            <a:endParaRPr b="0" lang="en-US" sz="2100" spc="-1" strike="noStrike">
              <a:solidFill>
                <a:srgbClr val="000000"/>
              </a:solidFill>
              <a:latin typeface="Arial"/>
            </a:endParaRPr>
          </a:p>
          <a:p>
            <a:pPr lvl="1" marL="743040" indent="-285840">
              <a:lnSpc>
                <a:spcPct val="8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ultivating more peripheral awareness.</a:t>
            </a: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Afterimages – using an SLR flash provides a feedback loop</a:t>
            </a: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Happy face tracking – a modified “dotting o’s” tracking activity where round letters have smiley faces, and a child has to stop and scan and announce when a smiley face is seen.</a:t>
            </a:r>
            <a:endParaRPr b="0" lang="en-US" sz="2100" spc="-1" strike="noStrike">
              <a:solidFill>
                <a:srgbClr val="000000"/>
              </a:solidFill>
              <a:latin typeface="Arial"/>
            </a:endParaRPr>
          </a:p>
          <a:p>
            <a:pPr lvl="1" marL="743040" indent="-285840">
              <a:lnSpc>
                <a:spcPct val="8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his activity can be made into a biocular and binocular task by adding red and green filte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therapy activities are incorporated in daily living…examples include</a:t>
            </a:r>
            <a:endParaRPr b="0" lang="en-US" sz="30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n TJ inserts the straw into his juice box</a:t>
            </a:r>
            <a:endParaRPr b="0" lang="en-US" sz="29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tching, bouncing, throwing a ball</a:t>
            </a:r>
            <a:endParaRPr b="0" lang="en-US" sz="29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TJ is patched, objects of interest will continually be brought into his field of vision.</a:t>
            </a:r>
            <a:endParaRPr b="0" lang="en-US" sz="29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iding a bicycle – bilateral integration</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ferences:</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urell, E., &amp; Norrsell, K. (1990). A longitudinal study of children with a family history of strabismus: factors determining the incidence of strabismus. </a:t>
            </a:r>
            <a:r>
              <a:rPr b="0" i="1" lang="en-AU" sz="2800" spc="-1" strike="noStrike">
                <a:solidFill>
                  <a:srgbClr val="000000"/>
                </a:solidFill>
                <a:latin typeface="Arial"/>
              </a:rPr>
              <a:t>Br J Ophthalmol, 74</a:t>
            </a:r>
            <a:r>
              <a:rPr b="0" lang="en-AU" sz="2800" spc="-1" strike="noStrike">
                <a:solidFill>
                  <a:srgbClr val="000000"/>
                </a:solidFill>
                <a:latin typeface="Arial"/>
              </a:rPr>
              <a:t>(10), 589-594.</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ss, L. J. (1997). </a:t>
            </a:r>
            <a:r>
              <a:rPr b="0" i="1" lang="en-AU" sz="2800" spc="-1" strike="noStrike">
                <a:solidFill>
                  <a:srgbClr val="000000"/>
                </a:solidFill>
                <a:latin typeface="Arial"/>
              </a:rPr>
              <a:t>Applied Concepts in Vision Therapy</a:t>
            </a:r>
            <a:r>
              <a:rPr b="0" lang="en-AU" sz="2800" spc="-1" strike="noStrike">
                <a:solidFill>
                  <a:srgbClr val="000000"/>
                </a:solidFill>
                <a:latin typeface="Arial"/>
              </a:rPr>
              <a:t>. St. Louis: Mosby.</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n Noorden, G. K. (1976). The nystagmus compensation (blockage) syndrome. </a:t>
            </a:r>
            <a:r>
              <a:rPr b="0" i="1" lang="en-AU" sz="2800" spc="-1" strike="noStrike">
                <a:solidFill>
                  <a:srgbClr val="000000"/>
                </a:solidFill>
                <a:latin typeface="Arial"/>
              </a:rPr>
              <a:t>Am J Ophthalmol, 82</a:t>
            </a:r>
            <a:r>
              <a:rPr b="0" lang="en-AU" sz="2800" spc="-1" strike="noStrike">
                <a:solidFill>
                  <a:srgbClr val="000000"/>
                </a:solidFill>
                <a:latin typeface="Arial"/>
              </a:rPr>
              <a:t>(2), 283-29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actice Management Issues encountered during this course..</a:t>
            </a:r>
            <a:endParaRPr b="0" lang="en-US" sz="3400" spc="-1" strike="noStrike">
              <a:solidFill>
                <a:srgbClr val="000000"/>
              </a:solidFill>
              <a:latin typeface="Arial"/>
            </a:endParaRPr>
          </a:p>
        </p:txBody>
      </p:sp>
      <p:sp>
        <p:nvSpPr>
          <p:cNvPr id="11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pic, as I am working in a practice where vision therapy was long established before I joined…bu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ometrist vs. vision therapist for vision therap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therapist – can be anyone, preferably a person who has a background of working with children, and has patience, empathy, perseverance, and persuasion.  Can be accredited, but must work in conjunction with a fellow and must have fulfil professional development points/hou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ision therapy to be economically feasible – the optometrist is responsible for planning and troubleshooting a programme, though the hands-on therapy is conducted by the therapist. </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ometrist can therefore have more time to evaluate and consult patients, therefore increasing revenue.</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alternative is group therapy – which lessens the feeling that there is something wrong with the child, though the child may not gain as much feedback from the therapist compared to one on one sessions.</a:t>
            </a:r>
            <a:endParaRPr b="0" lang="en-US" sz="18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ty of care – what happens if there are multiple therapists in a given practice? Or multiple optometri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s can be trained in other areas, such as pretesting.  This can shorten appointment times with the optometrist; the optometrist can see more patients, and increase revenue.</a:t>
            </a:r>
            <a:endParaRPr b="0" lang="en-US" sz="1900" spc="-1" strike="noStrike">
              <a:solidFill>
                <a:srgbClr val="000000"/>
              </a:solidFill>
              <a:latin typeface="Arial"/>
            </a:endParaRPr>
          </a:p>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s may not be specifically trained in aspects of accommodation/convergence, strabismus and amblyopia and thus may have difficulty in understanding the diagnosis and why a particular activity is used for a particular patient.  If the optometrist is conducting therapy, their training/knowledge enables them better understand the patient’s condition, and can change the direction a particular activity takes.</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n example can include what to do if a patient cannot keep vectograms single.</a:t>
            </a:r>
            <a:endParaRPr b="0" lang="en-US" sz="1900" spc="-1" strike="noStrike">
              <a:solidFill>
                <a:srgbClr val="000000"/>
              </a:solidFill>
              <a:latin typeface="Arial"/>
            </a:endParaRPr>
          </a:p>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 disadvantages – difficulties can arise from finding a suitable assistant/therapist, as not everyone is suitable for every job.  The appropriate individual not only has to be liked by patients, but also other members of staff.</a:t>
            </a:r>
            <a:endParaRPr b="0" lang="en-US" sz="1900" spc="-1" strike="noStrike">
              <a:solidFill>
                <a:srgbClr val="000000"/>
              </a:solidFill>
              <a:latin typeface="Arial"/>
            </a:endParaRPr>
          </a:p>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 disadvantages – like all members of staff, they require a salary.  If a practice does not have a high turnover rate of patients, it may not be viable to employ a vision therapist as the optometrist may be able to schedule therapy patients in their appointment book.</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J, dob 25/08/04</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C: TJs mother had brought him for a second opinion on recommendation by family friend optometris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viously managed by ophthalmologist, it was suggested TJ have surgery for his turned eye as there has been 8 months of unsuccessful spectacle wear.  TJ is reported to have broken several (3) pairs of glasses, and constantly takes them off.</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rabismus noticed for the past 8 months; the majority of the time (80%) the right eye is noticed to turn “in”.  It is reported that the strabismus is most noticeable when TJ is tired.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the strabismus was noticed quite suddenly, an MRI was organised which did not find any abnorma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amily History: there is no reported family history of strabismus or amblyopi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Health: TJ is in good health and is not on any medica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mental history: compared to his twin, TJ was reported to be delayed, not only in walking and talking, but also socialising aspects in 3 year old kindergarten.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urrent spectacle prescription: R) +3.0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 pl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agnostic inform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stance vision: R) 3/6 and L) 3/3 measured with Kay Pictur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xcursions – full. No alphabet patterns seen.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over Test distance – 20</a:t>
            </a:r>
            <a:r>
              <a:rPr b="0" lang="en-AU" sz="2200" spc="-1" strike="noStrike" baseline="30000">
                <a:solidFill>
                  <a:srgbClr val="000000"/>
                </a:solidFill>
                <a:latin typeface="Arial"/>
                <a:ea typeface="Arial"/>
              </a:rPr>
              <a:t>∆ </a:t>
            </a:r>
            <a:r>
              <a:rPr b="0" lang="en-AU" sz="2200" spc="-1" strike="noStrike">
                <a:solidFill>
                  <a:srgbClr val="000000"/>
                </a:solidFill>
                <a:latin typeface="Arial"/>
                <a:ea typeface="Arial"/>
              </a:rPr>
              <a:t>right constant comitant esotropia.</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Cover Test near - 30 </a:t>
            </a:r>
            <a:r>
              <a:rPr b="0" lang="en-AU" sz="2200" spc="-1" strike="noStrike" baseline="30000">
                <a:solidFill>
                  <a:srgbClr val="000000"/>
                </a:solidFill>
                <a:latin typeface="Arial"/>
                <a:ea typeface="Arial"/>
              </a:rPr>
              <a:t>∆ </a:t>
            </a:r>
            <a:r>
              <a:rPr b="0" lang="en-AU" sz="2200" spc="-1" strike="noStrike">
                <a:solidFill>
                  <a:srgbClr val="000000"/>
                </a:solidFill>
                <a:latin typeface="Arial"/>
                <a:ea typeface="Arial"/>
              </a:rPr>
              <a:t>right constant comitant esotropia.</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Stereopsis – No fly, no animal, no random do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Pupils – direct √ consensual √ Marcus Gunn -ve</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Ishihara - passe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Dry Distance retinoscopy (not over his rx) –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	</a:t>
            </a:r>
            <a:r>
              <a:rPr b="0" lang="en-AU" sz="2200" spc="-1" strike="noStrike">
                <a:solidFill>
                  <a:srgbClr val="000000"/>
                </a:solidFill>
                <a:latin typeface="Arial"/>
                <a:ea typeface="Arial"/>
              </a:rPr>
              <a:t>R) +2.50 L) +2.00</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MEM retinoscopy – R) +2.00 L) +1.75</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Cycloplegic retinoscopy – R) +3.75 / -0.50 x 180 an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	</a:t>
            </a:r>
            <a:r>
              <a:rPr b="0" lang="en-AU" sz="2200" spc="-1" strike="noStrike">
                <a:solidFill>
                  <a:srgbClr val="000000"/>
                </a:solidFill>
                <a:latin typeface="Arial"/>
                <a:ea typeface="Arial"/>
              </a:rPr>
              <a:t>L) +3.75D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Internal ocular examination - N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erential Diagnosis – </a:t>
            </a:r>
            <a:endParaRPr b="0" lang="en-US" sz="20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Infantile esotropia</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ccommodative esotropia</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Duanes syndrome</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Epicanthal folds</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Esotropia caused by organic lesions – cataract, retinoblastoma, toxoplasmosis at the fovea etc</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Nystagmus blockage syndrome? (von Noorden 1976)</a:t>
            </a:r>
            <a:endParaRPr b="0" lang="en-US" sz="1900" spc="-1" strike="noStrike">
              <a:solidFill>
                <a:srgbClr val="000000"/>
              </a:solidFill>
              <a:latin typeface="Arial"/>
            </a:endParaRPr>
          </a:p>
          <a:p>
            <a:pPr marL="585000" indent="-58500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agnosis – right constant convergence excess type esotropia. </a:t>
            </a:r>
            <a:endParaRPr b="0" lang="en-US" sz="2000" spc="-1" strike="noStrike">
              <a:solidFill>
                <a:srgbClr val="000000"/>
              </a:solidFill>
              <a:latin typeface="Arial"/>
            </a:endParaRPr>
          </a:p>
          <a:p>
            <a:pPr marL="585000" indent="-58500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3.75DS right and left for full time wear, review in 6 weeks.  Recommended TJ’s twin to have her eyes tested as she is at a higher risk of having a strabismus. </a:t>
            </a:r>
            <a:endParaRPr b="0" lang="en-US" sz="2000" spc="-1" strike="noStrike">
              <a:solidFill>
                <a:srgbClr val="000000"/>
              </a:solidFill>
              <a:latin typeface="Arial"/>
            </a:endParaRPr>
          </a:p>
          <a:p>
            <a:pPr lvl="1" marL="932760" indent="-493560">
              <a:lnSpc>
                <a:spcPct val="80000"/>
              </a:lnSpc>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rell and Norsell 1990) – if 1 parent or sibling has ET than 17% chance of child getting ET and 38% chance of being &gt;+4.00DS at 1 year.</a:t>
            </a:r>
            <a:endParaRPr b="0" lang="en-US" sz="1800" spc="-1" strike="noStrike">
              <a:solidFill>
                <a:srgbClr val="000000"/>
              </a:solidFill>
              <a:latin typeface="Arial"/>
            </a:endParaRPr>
          </a:p>
          <a:p>
            <a:pPr lvl="1" marL="932760" indent="-493560">
              <a:lnSpc>
                <a:spcPct val="80000"/>
              </a:lnSpc>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manuscript draft of a journal of the AOA showed up to 70% of optometrists do not prescribe the full cycloplegic correction when managing accommodative esotrop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1341000"/>
            <a:ext cx="8229600" cy="51498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1 – TJ going well with his glasses; mother is particularly impressed regarding the care of his spectacles.</a:t>
            </a:r>
            <a:endParaRPr b="0" lang="en-US" sz="18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visual acuity – R)  3/4.5 L) 3/3 with Kay pictures. </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retinoscopy over rx R) +0.50/ -0.50 x 90 an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L) plano.</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r Test distance – ortho</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r Test near – 20PD right constant esotropia.</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ereopsis – no fly, animal, or random dot</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M retinoscopy over rx R) +1.00 / -0.50 x 90 L) +0.50</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view advised for 4 weeks.</a:t>
            </a:r>
            <a:endParaRPr b="0" lang="en-US" sz="16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2 – Glasses still going well, though esotropia is still noticed sometimes.</a:t>
            </a:r>
            <a:endParaRPr b="0" lang="en-US" sz="18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visual acuity – 6/12 OU with Lea</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retinoscopy over rx R) +0.50 / -0.50 x 90 L) plano</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r Tests – as previous</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M retinoscopy – as previous</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ereopsis – as previous</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ment – prescribed multifocal R) +4.25 / -0.50 x 90 L ) +3.75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dd +2.00 DS for better control of strabismus at near.</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view 8 weeks (as multifocals would take 2 weeks to be ma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urrent Rx – R) +4.25 / -0.50 x 90</a:t>
            </a:r>
            <a:br>
              <a:rPr sz="3400"/>
            </a:br>
            <a:r>
              <a:rPr b="0" lang="en-US" sz="3400" spc="-1" strike="noStrike">
                <a:solidFill>
                  <a:srgbClr val="000000"/>
                </a:solidFill>
                <a:latin typeface="Arial"/>
              </a:rPr>
              <a:t>L) +3.75, addition of +2.00</a:t>
            </a:r>
            <a:endParaRPr b="0" lang="en-US" sz="3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st review 10/11/08</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for review and also because have had a few falls from his bicycle, and has scratched the left lens.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 distance R) 6/9.5 L) 6/9.5 with Le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test distance – ortho</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test near – 15 PD right constant esotropi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retinoscopy over spectacles</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0.25 L) +0.25</a:t>
            </a:r>
            <a:endParaRPr b="0" lang="en-US" sz="16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J needed new lenses, an increase in the addition was warranted for better control of the strabismus at near.</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 retinoscopy over R) +7.00 / -0.50 x 90 L)+6.50</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Right and left</a:t>
            </a:r>
            <a:endParaRPr b="0" lang="en-US" sz="16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test at near in trial frame – appears ortho</a:t>
            </a:r>
            <a:endParaRPr b="0" lang="en-US" sz="18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prescribed R) +4.50 / -0.50 x 90 L) +4.0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2.50</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7 wee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ture considerations?</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th 4 Dot test – to assess if TJ is binocular at distance</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 addition?</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g? Acuities are equal.</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i-nasal occlusion and base out prism can be used to extend the centration point – the point at which the visual axes of the eyes overlap.  Aim is to gradually extend this outwards. But prism adaptation? Cosmesis?</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rgery? This is probably unlikely as there is good acuity and TJ’s eyes appear straight in the d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 therap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2 – Gross motor foundations.  Activities may include Angels in the snow, Cross pattern creeping and Marsden ball activities.  These activities aim to develop body bilateral development, which are important in the sequencing of binocular ocular dominance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3 – Monocular skills of the strabismic eye are developed to match the non-strabismic eye.  These skills include spatial awareness, eye-hand localisation and accommodation. E.g. spatial matching.</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4 – MFBF – monocular fixation in a binocular field activities act to reverse the normal adaptive pattern in which the fixating eye is more weighted toward central processing, compared to the input of the amblyopic eye (Press, 1997).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5 – Biocular – biocular activities such as anaglyphic TV trainer and the Kraskin squinchel technique, promotes simultaneous perception of right and left images without superimposition.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5 – Binocular – this phase of therapy challenges and teams the eyes in everyday situations where sensory input is equal.  Other levels of fusion, such as superimposition, flat fusion and stereopsis are developed in this phase with the use of activities such as Brock string and cheiroscopic projec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2:57:42Z</dcterms:created>
  <dc:creator>danny</dc:creator>
  <dc:description/>
  <dc:language>en-US</dc:language>
  <cp:lastModifiedBy>danny</cp:lastModifiedBy>
  <dcterms:modified xsi:type="dcterms:W3CDTF">2008-11-13T15:05:56Z</dcterms:modified>
  <cp:revision>107</cp:revision>
  <dc:subject/>
  <dc:title>OPTM7203 Behavioural Optometry Module 2</dc:title>
</cp:coreProperties>
</file>