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639-00A2-4734-8AE6-D2B8FD2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5DA-5207-4F72-B282-EAD2AB9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D37-8B3B-43A8-8D50-F5F182F1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EC6-CEF2-4A95-90E1-480583A0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A45-6183-4D36-89B7-80A53D5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149-DD9C-458C-B899-44382B3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868-D447-4948-9371-A8E00F7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8D51-8316-4D26-8C7B-EBCCFD1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9F59-625F-415B-B31D-1B465A9C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C2D1-799B-4056-B47B-1047725B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5E1-5311-46EB-AF7F-D09DCB19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B5A-5754-42B2-A987-87ED3551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E31-8A6C-4AC9-979C-25B01D1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E663-83FF-4B33-8B03-3E8F13D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F5CF-9DA5-4072-98F3-B7F5463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EC1-2ABE-4855-9851-4B46D76A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D240-DCD4-4707-945A-1AD07300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4DC-CECD-4954-81DC-66B5D663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3EB-14EE-44BE-AD88-80AB59D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86E-742F-4D84-BA89-A0A2D5E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C1B-E06E-4182-9CD6-38DB98D9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3AE-10A8-4B56-B4BC-DA21DC8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6C4-7C68-46D0-8F3B-3A6565D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B5A-8552-4B0A-9C89-6A9AA4A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10E-59DF-4DBB-AD52-7E38B5F53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2BA1-0DFD-439C-B8BD-D3C613A23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M 7103 Cas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year old W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9600" y="260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Ch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use, MW, Hutter RF, Shiflett R. A normative study of the accommodative lag in elementary schoolchildren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m J Optom Physiol Op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84;61:693-6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heiman M, Gallaway M, Coulter R, et al. Prevalence of vision and ocular disease conditions in a clinical pediatric population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J Am Optom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96;67:193-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rcar E, Nartinez-Palomera A. Prevalence of general dysfunctions in a population of university students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ptom Vis Sci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97;74:111-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iller NR. In: Walsh FB, and Hoyt WF, eds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linical neuro-ophthalmolog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Ed. Baltimore: Williams &amp; Wilkins, 1969:534-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senting complaint: gener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tance vision – distance blur, noticeable in the afternoon /evening, after a hard day’s work.  Morning vision is fine.  This was first noticed 5 years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ar vision – alway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aches and sore eyes not experi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ccupation – Law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sual needs – majority of work involves reading, either at the computer or books.  At least 3 hours a day are spent in front of the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vious ocula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st saw optometrist 5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s advised by previous optometrist that he was “short-sigh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bsequently a distance rx was pr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has not worn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reports of injuries, surgery or infections to th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Ocular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, Father and brother myopic and or astig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’s Rx – R) -2.50 / -2.00 x 50, L) -2.00 / -1.00 x 65, +2.50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’s Rx – R) -1.50 / -2.50 x 21, L) -1.50 / -1.00 x 90, +2.50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ther’s contact lenses – Focus Night &amp; Day R) -4.50 L) -3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nty – glaucoma and retinitis pigmen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aunty – retinitis pigmen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story of amblyopia or strabismus within th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to be we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ll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ir skills (tested at 12p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vision R) 6/7.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L) 6/7.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B) 6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ar vision R) 6/6 L) 6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cursions –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ver test – distance – orthophoric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near – moderately exoph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PC - ~2cm to bridge of nose, no pain reported and can voluntarily conve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ereopsis – fly, 3 animals and randot demons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hihara –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retin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) -0.25 / -0.25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) -0.25 / -0.25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ur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25923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lu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75 – 6/15, 6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50– 6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25– 6/9.5, 6/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ano –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0.25 –  6/4.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lanced to pl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1666800"/>
            <a:ext cx="67312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mmodation and convergenc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phoria : 8 exop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.00 – 10 exop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00 – 6 exop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.00 – 12 exophoria (slightly blur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00 – 4 exophoria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phoria : 2 exop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point of accommodation (blurs a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11, 11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12, 11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12, 12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+1.00/-1.00 pass (no difference), -2.00 pass, +2.00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RD -2.00 @ 6/9.5, both eyes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mmodation and convergence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genc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near, BO = 20 / 20 / &gt;20 / &gt;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near, BI = x / x / 15 /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distance, BO = x / 15 / 20 /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distance, BI = x / 15 /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M retin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) plano / +0.25 x 1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) plano / +0.25 x 1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ar subjective +0.75 = +0.50 &gt;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fferentials and diagno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yopia – strong family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ergence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commodation ex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condition whereby a patient has difficulty with all tasks requiring relaxation of accommo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1.0% (n=721) over accommodation of 0.50 dioptre (MEM retinoscopy) in schoolchildren (Rouse et al 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2.2% (n=1650) in paediatric population (Scheiman et al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10.8% (n=65) in a population of university students (Natinez-Palomera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Confusion in the literature – accommodative spasm, spasm of near reflex (Miller et al 1969), pseudomyop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are? 17 cases of accommodative spasm over a 4 years period in clinical practice (Rutstein et al 1988) – used dynamic retinoscopy to assess accommodativ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 of uncorrected refractive error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ptic vis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2:35:50Z</dcterms:created>
  <dc:creator>danny</dc:creator>
  <dc:description/>
  <dc:language>en-US</dc:language>
  <cp:lastModifiedBy>danny</cp:lastModifiedBy>
  <dcterms:modified xsi:type="dcterms:W3CDTF">2008-05-21T15:13:54Z</dcterms:modified>
  <cp:revision>34</cp:revision>
  <dc:subject/>
  <dc:title>OPTM 7103 Case Presentation</dc:title>
</cp:coreProperties>
</file>