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555FF-BA9D-42CD-9D4F-6CF963C1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50EC9-9FFC-43E9-866C-627D7107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6F4C3-27D1-4590-BC54-556B8271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BBA4-9155-4A02-BF35-921B244E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5C19-FB69-4E4C-A445-ED97A6A5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62FD-A950-471E-BD6D-71604900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74CF-7AB5-4023-B0EC-961D8718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66DC-EA4C-40F2-914C-955B5A4F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EE56-9137-472E-847E-BBD73304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A576-D403-445C-9088-34AE946A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D760-D06A-43AE-8AE5-8E723597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EF73-98E4-44A5-B872-4AFCAC2A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8EE4-51F3-4170-BCB8-1AC21B1E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EAE7-99C9-48D2-A325-CBA386D7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001C-330F-4E96-8666-A4BF2357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AD81-2E74-4FFF-A4E9-33C51876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51C7-A3D8-4369-ABD9-D4ECE0C8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F969-31CE-42C1-AAB4-3A3174FC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5C376-839D-4C0A-9EB9-4269BD51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F0C5-AD22-48B0-81D8-72CA86F9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0FE5-9FB8-4697-9241-0F246662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4F11-33F1-486F-9B38-FBE7F82C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68CC-D87C-4B78-BB71-3F80196E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1F3B7-EEF5-4A41-A574-D0BE4AAE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9CA2-8ED3-4867-8CC9-AA0C6418CA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7786-70AB-4D61-BCF4-4D9C68398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ffff"/>
                </a:solidFill>
                <a:latin typeface="Palatino Linotype"/>
              </a:rPr>
              <a:t>Macular Hol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339640" y="4266720"/>
            <a:ext cx="6651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Palatino Linotype"/>
              </a:rPr>
              <a:t>655-540 Ocular Disease Manage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Palatino Linotype"/>
              </a:rPr>
              <a:t>Case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Palatino Linotype"/>
              </a:rPr>
              <a:t>Rymon Ge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469800"/>
            <a:ext cx="1969920" cy="1866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83000" y="476280"/>
            <a:ext cx="1992240" cy="1866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886280" y="549360"/>
            <a:ext cx="3630600" cy="1809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68360" y="2930400"/>
            <a:ext cx="3664080" cy="1866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01720" y="22701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ge 1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2421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g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9338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g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4720" y="23414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ge 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643280" y="2924280"/>
            <a:ext cx="3670560" cy="2670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943960" y="5661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le 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616572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Images sourced from Ataweel M. et al.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x Presenta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2 yo fe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C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roke BF’s approx 1/12 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cent decease in vision at D &amp; N and distorted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 changes noticed on amsler gr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ast rev. 6/12 (re: macular ho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 history of trauma, infection, or inflam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artial thickness hole, first noted in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ogressed to full thickness (stage 2) in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hthalmology assessment recommended referral to retinal sub-specialist (end of 2003) – but “Px preferred not to have an opin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H: N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H: Hypertension + (control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eliminary tests: N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916280"/>
          <a:ext cx="6119640" cy="1927080"/>
        </p:xfrm>
        <a:graphic>
          <a:graphicData uri="http://schemas.openxmlformats.org/drawingml/2006/table">
            <a:tbl>
              <a:tblPr/>
              <a:tblGrid>
                <a:gridCol w="2357280"/>
                <a:gridCol w="1881360"/>
                <a:gridCol w="1881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 with current R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ive R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6 (NIP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7.5 (NIP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 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2" name=""/>
          <p:cNvGrpSpPr/>
          <p:nvPr/>
        </p:nvGrpSpPr>
        <p:grpSpPr>
          <a:xfrm>
            <a:off x="4644720" y="4632120"/>
            <a:ext cx="719280" cy="648000"/>
            <a:chOff x="4644720" y="4632120"/>
            <a:chExt cx="719280" cy="648000"/>
          </a:xfrm>
        </p:grpSpPr>
        <p:sp>
          <p:nvSpPr>
            <p:cNvPr id="113" name=""/>
            <p:cNvSpPr/>
            <p:nvPr/>
          </p:nvSpPr>
          <p:spPr>
            <a:xfrm>
              <a:off x="4645080" y="4632480"/>
              <a:ext cx="71892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67640" y="4899960"/>
              <a:ext cx="93240" cy="83160"/>
            </a:xfrm>
            <a:custGeom>
              <a:avLst/>
              <a:gdLst/>
              <a:ahLst/>
              <a:rect l="l" t="t" r="r" b="b"/>
              <a:pathLst>
                <a:path w="257" h="248">
                  <a:moveTo>
                    <a:pt x="97" y="0"/>
                  </a:moveTo>
                  <a:cubicBezTo>
                    <a:pt x="107" y="1"/>
                    <a:pt x="184" y="1"/>
                    <a:pt x="201" y="24"/>
                  </a:cubicBezTo>
                  <a:cubicBezTo>
                    <a:pt x="220" y="49"/>
                    <a:pt x="222" y="92"/>
                    <a:pt x="241" y="120"/>
                  </a:cubicBezTo>
                  <a:cubicBezTo>
                    <a:pt x="247" y="148"/>
                    <a:pt x="257" y="172"/>
                    <a:pt x="241" y="200"/>
                  </a:cubicBezTo>
                  <a:cubicBezTo>
                    <a:pt x="228" y="223"/>
                    <a:pt x="144" y="240"/>
                    <a:pt x="113" y="248"/>
                  </a:cubicBezTo>
                  <a:cubicBezTo>
                    <a:pt x="48" y="240"/>
                    <a:pt x="22" y="238"/>
                    <a:pt x="1" y="176"/>
                  </a:cubicBezTo>
                  <a:cubicBezTo>
                    <a:pt x="4" y="139"/>
                    <a:pt x="0" y="100"/>
                    <a:pt x="9" y="64"/>
                  </a:cubicBezTo>
                  <a:cubicBezTo>
                    <a:pt x="14" y="43"/>
                    <a:pt x="74" y="12"/>
                    <a:pt x="97" y="0"/>
                  </a:cubicBez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01040" y="4799880"/>
              <a:ext cx="37800" cy="147960"/>
            </a:xfrm>
            <a:custGeom>
              <a:avLst/>
              <a:gdLst/>
              <a:ahLst/>
              <a:rect l="l" t="t" r="r" b="b"/>
              <a:pathLst>
                <a:path w="72" h="280">
                  <a:moveTo>
                    <a:pt x="48" y="0"/>
                  </a:moveTo>
                  <a:cubicBezTo>
                    <a:pt x="16" y="11"/>
                    <a:pt x="10" y="25"/>
                    <a:pt x="0" y="56"/>
                  </a:cubicBezTo>
                  <a:cubicBezTo>
                    <a:pt x="44" y="85"/>
                    <a:pt x="56" y="88"/>
                    <a:pt x="72" y="136"/>
                  </a:cubicBezTo>
                  <a:cubicBezTo>
                    <a:pt x="65" y="177"/>
                    <a:pt x="62" y="198"/>
                    <a:pt x="40" y="232"/>
                  </a:cubicBezTo>
                  <a:cubicBezTo>
                    <a:pt x="49" y="270"/>
                    <a:pt x="43" y="254"/>
                    <a:pt x="56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97440" y="4968000"/>
              <a:ext cx="37800" cy="147960"/>
            </a:xfrm>
            <a:custGeom>
              <a:avLst/>
              <a:gdLst/>
              <a:ahLst/>
              <a:rect l="l" t="t" r="r" b="b"/>
              <a:pathLst>
                <a:path w="72" h="280">
                  <a:moveTo>
                    <a:pt x="48" y="0"/>
                  </a:moveTo>
                  <a:cubicBezTo>
                    <a:pt x="16" y="11"/>
                    <a:pt x="10" y="25"/>
                    <a:pt x="0" y="56"/>
                  </a:cubicBezTo>
                  <a:cubicBezTo>
                    <a:pt x="44" y="85"/>
                    <a:pt x="56" y="88"/>
                    <a:pt x="72" y="136"/>
                  </a:cubicBezTo>
                  <a:cubicBezTo>
                    <a:pt x="65" y="177"/>
                    <a:pt x="62" y="198"/>
                    <a:pt x="40" y="232"/>
                  </a:cubicBezTo>
                  <a:cubicBezTo>
                    <a:pt x="49" y="270"/>
                    <a:pt x="43" y="254"/>
                    <a:pt x="56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80240" y="4727880"/>
              <a:ext cx="37800" cy="147960"/>
            </a:xfrm>
            <a:custGeom>
              <a:avLst/>
              <a:gdLst/>
              <a:ahLst/>
              <a:rect l="l" t="t" r="r" b="b"/>
              <a:pathLst>
                <a:path w="72" h="280">
                  <a:moveTo>
                    <a:pt x="48" y="0"/>
                  </a:moveTo>
                  <a:cubicBezTo>
                    <a:pt x="16" y="11"/>
                    <a:pt x="10" y="25"/>
                    <a:pt x="0" y="56"/>
                  </a:cubicBezTo>
                  <a:cubicBezTo>
                    <a:pt x="44" y="85"/>
                    <a:pt x="56" y="88"/>
                    <a:pt x="72" y="136"/>
                  </a:cubicBezTo>
                  <a:cubicBezTo>
                    <a:pt x="65" y="177"/>
                    <a:pt x="62" y="198"/>
                    <a:pt x="40" y="232"/>
                  </a:cubicBezTo>
                  <a:cubicBezTo>
                    <a:pt x="49" y="270"/>
                    <a:pt x="43" y="254"/>
                    <a:pt x="56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76000" y="4776120"/>
              <a:ext cx="37800" cy="147960"/>
            </a:xfrm>
            <a:custGeom>
              <a:avLst/>
              <a:gdLst/>
              <a:ahLst/>
              <a:rect l="l" t="t" r="r" b="b"/>
              <a:pathLst>
                <a:path w="72" h="280">
                  <a:moveTo>
                    <a:pt x="48" y="0"/>
                  </a:moveTo>
                  <a:cubicBezTo>
                    <a:pt x="16" y="11"/>
                    <a:pt x="10" y="25"/>
                    <a:pt x="0" y="56"/>
                  </a:cubicBezTo>
                  <a:cubicBezTo>
                    <a:pt x="44" y="85"/>
                    <a:pt x="56" y="88"/>
                    <a:pt x="72" y="136"/>
                  </a:cubicBezTo>
                  <a:cubicBezTo>
                    <a:pt x="65" y="177"/>
                    <a:pt x="62" y="198"/>
                    <a:pt x="40" y="232"/>
                  </a:cubicBezTo>
                  <a:cubicBezTo>
                    <a:pt x="49" y="270"/>
                    <a:pt x="43" y="254"/>
                    <a:pt x="56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4360" y="5016240"/>
              <a:ext cx="37800" cy="147960"/>
            </a:xfrm>
            <a:custGeom>
              <a:avLst/>
              <a:gdLst/>
              <a:ahLst/>
              <a:rect l="l" t="t" r="r" b="b"/>
              <a:pathLst>
                <a:path w="72" h="280">
                  <a:moveTo>
                    <a:pt x="48" y="0"/>
                  </a:moveTo>
                  <a:cubicBezTo>
                    <a:pt x="16" y="11"/>
                    <a:pt x="10" y="25"/>
                    <a:pt x="0" y="56"/>
                  </a:cubicBezTo>
                  <a:cubicBezTo>
                    <a:pt x="44" y="85"/>
                    <a:pt x="56" y="88"/>
                    <a:pt x="72" y="136"/>
                  </a:cubicBezTo>
                  <a:cubicBezTo>
                    <a:pt x="65" y="177"/>
                    <a:pt x="62" y="198"/>
                    <a:pt x="40" y="232"/>
                  </a:cubicBezTo>
                  <a:cubicBezTo>
                    <a:pt x="49" y="270"/>
                    <a:pt x="43" y="254"/>
                    <a:pt x="56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76000" y="4992120"/>
              <a:ext cx="37800" cy="147960"/>
            </a:xfrm>
            <a:custGeom>
              <a:avLst/>
              <a:gdLst/>
              <a:ahLst/>
              <a:rect l="l" t="t" r="r" b="b"/>
              <a:pathLst>
                <a:path w="72" h="280">
                  <a:moveTo>
                    <a:pt x="48" y="0"/>
                  </a:moveTo>
                  <a:cubicBezTo>
                    <a:pt x="16" y="11"/>
                    <a:pt x="10" y="25"/>
                    <a:pt x="0" y="56"/>
                  </a:cubicBezTo>
                  <a:cubicBezTo>
                    <a:pt x="44" y="85"/>
                    <a:pt x="56" y="88"/>
                    <a:pt x="72" y="136"/>
                  </a:cubicBezTo>
                  <a:cubicBezTo>
                    <a:pt x="65" y="177"/>
                    <a:pt x="62" y="198"/>
                    <a:pt x="40" y="232"/>
                  </a:cubicBezTo>
                  <a:cubicBezTo>
                    <a:pt x="49" y="270"/>
                    <a:pt x="43" y="254"/>
                    <a:pt x="56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921200" y="4632120"/>
              <a:ext cx="0" cy="16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21200" y="5112000"/>
              <a:ext cx="0" cy="16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04720" y="4632480"/>
              <a:ext cx="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28480" y="5160240"/>
              <a:ext cx="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00480" y="4632480"/>
              <a:ext cx="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0480" y="5136480"/>
              <a:ext cx="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95880" y="46324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9040" y="463248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20400" y="463248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7880" y="463248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644720" y="47286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124240" y="482436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645080" y="482436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124240" y="492012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645080" y="492012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24240" y="501624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645080" y="501624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124240" y="511200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645080" y="511200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644720" y="51912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6836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r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4221000"/>
            <a:ext cx="82296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msler defect (RE) – central scotoma with surrounding wavy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040" y="5545080"/>
            <a:ext cx="8229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rnal examination: unremark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52927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/D 0.3, healthy NRR, IS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ark “brick red” lesion in central macular ~1/3 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yellow deposits seen at base of le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d. ERM overlying le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400960" y="1582560"/>
            <a:ext cx="230400" cy="249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30040" cy="249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43280" y="1251000"/>
            <a:ext cx="41054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/D 0.3, healthy NRR, IS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ild ERM superior to ma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619200"/>
            <a:ext cx="540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ydriatic internal ex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003640" y="3430440"/>
            <a:ext cx="3732480" cy="2662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075280" y="6164280"/>
            <a:ext cx="151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osselt et al.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11280" y="3213000"/>
            <a:ext cx="40957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ight Stage 3 macular hole and bilateral 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ark red lesion &gt; 400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µm (judged as 1/3 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Central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cotoma on Amsler (not very sensitive for macular ho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atzke test +  (Most useful test for clinici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rop of 2 lines in VA since last vis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CMO: gradual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VA, lighter in colour, usually follows Sx or inflammation (uveitis)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tzke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lar Retinopathy: history viewing solar eclipses. Typically smaller, yellow le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RM Pseudohole: follows grade 3 ERM (macular pucker), Watzke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entral Serous Retinopathy:  serous retinal detachment, improvement with small hyperopic addition, Watzke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132000" y="2349360"/>
            <a:ext cx="2087640" cy="648000"/>
            <a:chOff x="3132000" y="2349360"/>
            <a:chExt cx="2087640" cy="648000"/>
          </a:xfrm>
        </p:grpSpPr>
        <p:grpSp>
          <p:nvGrpSpPr>
            <p:cNvPr id="154" name=""/>
            <p:cNvGrpSpPr/>
            <p:nvPr/>
          </p:nvGrpSpPr>
          <p:grpSpPr>
            <a:xfrm>
              <a:off x="3852720" y="2349360"/>
              <a:ext cx="647640" cy="647640"/>
              <a:chOff x="3852720" y="2349360"/>
              <a:chExt cx="647640" cy="647640"/>
            </a:xfrm>
          </p:grpSpPr>
          <p:sp>
            <p:nvSpPr>
              <p:cNvPr id="155" name=""/>
              <p:cNvSpPr/>
              <p:nvPr/>
            </p:nvSpPr>
            <p:spPr>
              <a:xfrm>
                <a:off x="3852720" y="2349360"/>
                <a:ext cx="647640" cy="64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4147920" y="2349360"/>
                <a:ext cx="82080" cy="647640"/>
                <a:chOff x="4147920" y="2349360"/>
                <a:chExt cx="82080" cy="6476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147920" y="2349360"/>
                  <a:ext cx="82080" cy="249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47920" y="2747880"/>
                  <a:ext cx="82080" cy="249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3132000" y="2349360"/>
              <a:ext cx="647640" cy="648000"/>
              <a:chOff x="3132000" y="2349360"/>
              <a:chExt cx="647640" cy="648000"/>
            </a:xfrm>
          </p:grpSpPr>
          <p:sp>
            <p:nvSpPr>
              <p:cNvPr id="160" name=""/>
              <p:cNvSpPr/>
              <p:nvPr/>
            </p:nvSpPr>
            <p:spPr>
              <a:xfrm>
                <a:off x="3132000" y="2349360"/>
                <a:ext cx="647640" cy="64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03640" y="2349360"/>
                <a:ext cx="71280" cy="648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4572000" y="2349360"/>
              <a:ext cx="647640" cy="648000"/>
              <a:chOff x="4572000" y="2349360"/>
              <a:chExt cx="647640" cy="64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4572000" y="2349360"/>
                <a:ext cx="647640" cy="64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005440" y="2349360"/>
                <a:ext cx="71280" cy="648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ferred for ophthalmology assessment and possible surger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tient advised on importance of specialist care to maintain current 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itrect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LM peel and ERM peel (if pres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Gas tamp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s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x positioned face down for 1-4 weeks for tamponade to produce clo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nitor for accelerated cataract formation – most common post surgical complication ~75% (Lia CC. et al. 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lose observation of other eye. Approximately 10-12% of px develop same condition in fellow ey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thout surge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pprox 84% of stage 2 holes progress to stage 3 with a decrease in VA of 2+ lines (Hikichi T. et al. 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ast majority progress further to stage 4 – over 10 years 84% of stage 2 holes reach stage 4 with VA stabilising at 6/60 to 6/120 (Casuso LA. et al. 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th surge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ery anatomical success rate with ILM peel is involved – approx 92% of stage 2-4 holes achieve full closure (Lia CC. et al. 200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igh functional success rate reported.  Best post surgical VA achieved with ILM is peel and cataract extraction – 77% improve 3 VA lines or more (Scott IU. et al. 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263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36520" y="380880"/>
            <a:ext cx="6243840" cy="5800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716360" y="6021000"/>
            <a:ext cx="2448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taweel M. et al. 2003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17:49:03Z</dcterms:created>
  <dc:creator>RYM&amp;NAZ</dc:creator>
  <dc:description/>
  <dc:language>en-US</dc:language>
  <cp:lastModifiedBy>RYM&amp;NAZ</cp:lastModifiedBy>
  <dcterms:modified xsi:type="dcterms:W3CDTF">2006-08-24T22:00:18Z</dcterms:modified>
  <cp:revision>51</cp:revision>
  <dc:subject/>
  <dc:title>Macular Ho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