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39C909-C461-4A02-B986-AD978529F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F8B5C2-20F6-48FA-999E-9D66F5A64C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E3DAA-1E78-418B-A439-127CBC331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2D9654-D835-4213-BC3E-072FEF053A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88D3E1-143D-4932-A9CA-939F74491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A3AD61-8521-43B8-B0D4-3DEF90BBD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E17635-9D17-4DB4-841A-572300833D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E5DAB-E7D8-46CE-AD41-F7B2B842C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7A8C2-2C8D-496E-B856-718F838621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E92F8-C817-4084-9ACE-67CE78135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B7375-38D5-42A8-ADF9-533ECC0975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194602-95F9-4552-86BC-6F35D1D0E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8EB87-94B5-4A0B-A26A-566B02FD19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EC8C8-DA0A-4D65-BE6C-D1C230F47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CC1692-7288-4200-B6D7-3CF51175C2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8E1F34-132C-4E65-8FAE-FDE601C87A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3D8CFF-E250-4B33-A1E3-9F30C388A88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06553C-5C4F-4ECE-BEEE-A7B039F6D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7D948-ED4C-48D1-8D30-D837856DE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503C5-47B8-47D2-A46D-C0ED12454F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34E1A-6D69-4FC0-A55C-2F315CFFB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28761A-C3A4-4E26-BF19-8FFC114A7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86539-1B1E-4E36-BD0A-768750383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8AAEE-98FE-4BA3-9C65-52921EB4E8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EE446-C3D5-4BEF-AA8E-4C40DE1A259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57A43-96C8-4003-936F-37F35BBC1F5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PTM7203</a:t>
            </a:r>
            <a:br>
              <a:rPr sz="4000"/>
            </a:br>
            <a:r>
              <a:rPr b="0" lang="en-US" sz="4000" spc="-1" strike="noStrike">
                <a:solidFill>
                  <a:srgbClr val="000000"/>
                </a:solidFill>
                <a:latin typeface="Arial"/>
              </a:rPr>
              <a:t>Behavioural Optometry Module 2</a:t>
            </a:r>
            <a:endParaRPr b="0" lang="en-US" sz="4000" spc="-1" strike="noStrike">
              <a:solidFill>
                <a:srgbClr val="000000"/>
              </a:solidFill>
              <a:latin typeface="Arial"/>
            </a:endParaRPr>
          </a:p>
        </p:txBody>
      </p:sp>
      <p:sp>
        <p:nvSpPr>
          <p:cNvPr id="96" name="PlaceHolder 2"/>
          <p:cNvSpPr>
            <a:spLocks noGrp="1"/>
          </p:cNvSpPr>
          <p:nvPr>
            <p:ph type="subTitle"/>
          </p:nvPr>
        </p:nvSpPr>
        <p:spPr>
          <a:xfrm>
            <a:off x="2057400" y="3505320"/>
            <a:ext cx="640080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se Report TJ</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ion Therapy continued.</a:t>
            </a:r>
            <a:endParaRPr b="0" lang="en-US" sz="3800" spc="-1" strike="noStrike">
              <a:solidFill>
                <a:srgbClr val="000000"/>
              </a:solidFill>
              <a:latin typeface="Arial"/>
            </a:endParaRPr>
          </a:p>
        </p:txBody>
      </p:sp>
      <p:sp>
        <p:nvSpPr>
          <p:cNvPr id="113" name="PlaceHolder 2"/>
          <p:cNvSpPr>
            <a:spLocks noGrp="1"/>
          </p:cNvSpPr>
          <p:nvPr>
            <p:ph/>
          </p:nvPr>
        </p:nvSpPr>
        <p:spPr>
          <a:xfrm>
            <a:off x="457200" y="1699920"/>
            <a:ext cx="8229600" cy="4753080"/>
          </a:xfrm>
          <a:prstGeom prst="rect">
            <a:avLst/>
          </a:prstGeom>
          <a:noFill/>
          <a:ln w="0">
            <a:noFill/>
          </a:ln>
        </p:spPr>
        <p:txBody>
          <a:bodyPr lIns="90000" rIns="90000" tIns="46800" bIns="46800" anchor="t">
            <a:normAutofit/>
          </a:bodyPr>
          <a:p>
            <a:pPr marL="343080" indent="-343080">
              <a:lnSpc>
                <a:spcPct val="80000"/>
              </a:lnSpc>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Issues as TJ is 4 years 2 months; maturity and the limited ability to follow directions restricts the amount of active vision therapy.</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Stick in the straw/cheezel/burger ring/tasty tube/donut</a:t>
            </a:r>
            <a:endParaRPr b="0" lang="en-US" sz="2100" spc="-1" strike="noStrike">
              <a:solidFill>
                <a:srgbClr val="000000"/>
              </a:solidFill>
              <a:latin typeface="Arial"/>
            </a:endParaRPr>
          </a:p>
          <a:p>
            <a:pPr marL="343080" indent="-343080">
              <a:lnSpc>
                <a:spcPct val="80000"/>
              </a:lnSpc>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Abduction Callisthenics – in the case of TJ, covering the nonstrabismic eye, and bringing an object of interest into view from behind the ear</a:t>
            </a:r>
            <a:endParaRPr b="0" lang="en-US" sz="2100" spc="-1" strike="noStrike">
              <a:solidFill>
                <a:srgbClr val="000000"/>
              </a:solidFill>
              <a:latin typeface="Arial"/>
            </a:endParaRPr>
          </a:p>
          <a:p>
            <a:pPr lvl="1" marL="743040" indent="-285840">
              <a:lnSpc>
                <a:spcPct val="8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Primarily working on the function of the medial rectus.</a:t>
            </a:r>
            <a:endParaRPr b="0" lang="en-US" sz="2100" spc="-1" strike="noStrike">
              <a:solidFill>
                <a:srgbClr val="000000"/>
              </a:solidFill>
              <a:latin typeface="Arial"/>
            </a:endParaRPr>
          </a:p>
          <a:p>
            <a:pPr lvl="1" marL="743040" indent="-285840">
              <a:lnSpc>
                <a:spcPct val="8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Cultivating more peripheral awareness.</a:t>
            </a:r>
            <a:endParaRPr b="0" lang="en-US" sz="2100" spc="-1" strike="noStrike">
              <a:solidFill>
                <a:srgbClr val="000000"/>
              </a:solidFill>
              <a:latin typeface="Arial"/>
            </a:endParaRPr>
          </a:p>
          <a:p>
            <a:pPr marL="343080" indent="-343080">
              <a:lnSpc>
                <a:spcPct val="80000"/>
              </a:lnSpc>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Afterimages – using an SLR flash provides a feedback loop</a:t>
            </a:r>
            <a:endParaRPr b="0" lang="en-US" sz="2100" spc="-1" strike="noStrike">
              <a:solidFill>
                <a:srgbClr val="000000"/>
              </a:solidFill>
              <a:latin typeface="Arial"/>
            </a:endParaRPr>
          </a:p>
          <a:p>
            <a:pPr marL="343080" indent="-343080">
              <a:lnSpc>
                <a:spcPct val="80000"/>
              </a:lnSpc>
              <a:spcBef>
                <a:spcPts val="524"/>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Happy face tracking – a modified “dotting o’s” tracking activity where round letters have smiley faces, and a child has to stop and scan and announce when a smiley face is seen.</a:t>
            </a:r>
            <a:endParaRPr b="0" lang="en-US" sz="2100" spc="-1" strike="noStrike">
              <a:solidFill>
                <a:srgbClr val="000000"/>
              </a:solidFill>
              <a:latin typeface="Arial"/>
            </a:endParaRPr>
          </a:p>
          <a:p>
            <a:pPr lvl="1" marL="743040" indent="-285840">
              <a:lnSpc>
                <a:spcPct val="80000"/>
              </a:lnSpc>
              <a:spcBef>
                <a:spcPts val="524"/>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100" spc="-1" strike="noStrike">
                <a:solidFill>
                  <a:srgbClr val="000000"/>
                </a:solidFill>
                <a:latin typeface="Arial"/>
              </a:rPr>
              <a:t>This activity can be made into a biocular and binocular task by adding red and green filters.</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therapy activities are incorporated in daily living…examples include</a:t>
            </a:r>
            <a:endParaRPr b="0" lang="en-US" sz="3000" spc="-1" strike="noStrike">
              <a:solidFill>
                <a:srgbClr val="000000"/>
              </a:solidFill>
              <a:latin typeface="Arial"/>
            </a:endParaRPr>
          </a:p>
          <a:p>
            <a:pPr lvl="1" marL="743040" indent="-285840">
              <a:spcBef>
                <a:spcPts val="72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When TJ inserts the straw into his juice box</a:t>
            </a:r>
            <a:endParaRPr b="0" lang="en-US" sz="2900" spc="-1" strike="noStrike">
              <a:solidFill>
                <a:srgbClr val="000000"/>
              </a:solidFill>
              <a:latin typeface="Arial"/>
            </a:endParaRPr>
          </a:p>
          <a:p>
            <a:pPr lvl="1" marL="743040" indent="-285840">
              <a:spcBef>
                <a:spcPts val="72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atching, bouncing, throwing a ball</a:t>
            </a:r>
            <a:endParaRPr b="0" lang="en-US" sz="2900" spc="-1" strike="noStrike">
              <a:solidFill>
                <a:srgbClr val="000000"/>
              </a:solidFill>
              <a:latin typeface="Arial"/>
            </a:endParaRPr>
          </a:p>
          <a:p>
            <a:pPr lvl="1" marL="743040" indent="-285840">
              <a:spcBef>
                <a:spcPts val="72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If TJ is patched, objects of interest will continually be brought into his field of vision.</a:t>
            </a:r>
            <a:endParaRPr b="0" lang="en-US" sz="2900" spc="-1" strike="noStrike">
              <a:solidFill>
                <a:srgbClr val="000000"/>
              </a:solidFill>
              <a:latin typeface="Arial"/>
            </a:endParaRPr>
          </a:p>
          <a:p>
            <a:pPr lvl="1" marL="743040" indent="-285840">
              <a:spcBef>
                <a:spcPts val="72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Riding a bicycle – bilateral integration</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References:</a:t>
            </a:r>
            <a:endParaRPr b="0" lang="en-US" sz="3800" spc="-1" strike="noStrike">
              <a:solidFill>
                <a:srgbClr val="000000"/>
              </a:solidFill>
              <a:latin typeface="Arial"/>
            </a:endParaRPr>
          </a:p>
        </p:txBody>
      </p:sp>
      <p:sp>
        <p:nvSpPr>
          <p:cNvPr id="11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urell, E., &amp; Norrsell, K. (1990). A longitudinal study of children with a family history of strabismus: factors determining the incidence of strabismus. </a:t>
            </a:r>
            <a:r>
              <a:rPr b="0" i="1" lang="en-AU" sz="2800" spc="-1" strike="noStrike">
                <a:solidFill>
                  <a:srgbClr val="000000"/>
                </a:solidFill>
                <a:latin typeface="Arial"/>
              </a:rPr>
              <a:t>Br J Ophthalmol, 74</a:t>
            </a:r>
            <a:r>
              <a:rPr b="0" lang="en-AU" sz="2800" spc="-1" strike="noStrike">
                <a:solidFill>
                  <a:srgbClr val="000000"/>
                </a:solidFill>
                <a:latin typeface="Arial"/>
              </a:rPr>
              <a:t>(10), 589-594.</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ess, L. J. (1997). </a:t>
            </a:r>
            <a:r>
              <a:rPr b="0" i="1" lang="en-AU" sz="2800" spc="-1" strike="noStrike">
                <a:solidFill>
                  <a:srgbClr val="000000"/>
                </a:solidFill>
                <a:latin typeface="Arial"/>
              </a:rPr>
              <a:t>Applied Concepts in Vision Therapy</a:t>
            </a:r>
            <a:r>
              <a:rPr b="0" lang="en-AU" sz="2800" spc="-1" strike="noStrike">
                <a:solidFill>
                  <a:srgbClr val="000000"/>
                </a:solidFill>
                <a:latin typeface="Arial"/>
              </a:rPr>
              <a:t>. St. Louis: Mosby.</a:t>
            </a:r>
            <a:endParaRPr b="0" lang="en-US" sz="2800" spc="-1" strike="noStrike">
              <a:solidFill>
                <a:srgbClr val="000000"/>
              </a:solidFill>
              <a:latin typeface="Arial"/>
            </a:endParaRPr>
          </a:p>
          <a:p>
            <a:pPr marL="343080" indent="-343080">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on Noorden, G. K. (1976). The nystagmus compensation (blockage) syndrome. </a:t>
            </a:r>
            <a:r>
              <a:rPr b="0" i="1" lang="en-AU" sz="2800" spc="-1" strike="noStrike">
                <a:solidFill>
                  <a:srgbClr val="000000"/>
                </a:solidFill>
                <a:latin typeface="Arial"/>
              </a:rPr>
              <a:t>Am J Ophthalmol, 82</a:t>
            </a:r>
            <a:r>
              <a:rPr b="0" lang="en-AU" sz="2800" spc="-1" strike="noStrike">
                <a:solidFill>
                  <a:srgbClr val="000000"/>
                </a:solidFill>
                <a:latin typeface="Arial"/>
              </a:rPr>
              <a:t>(2), 283-290.</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ractice Management Issues encountered during this course..</a:t>
            </a:r>
            <a:endParaRPr b="0" lang="en-US" sz="3400" spc="-1" strike="noStrike">
              <a:solidFill>
                <a:srgbClr val="000000"/>
              </a:solidFill>
              <a:latin typeface="Arial"/>
            </a:endParaRPr>
          </a:p>
        </p:txBody>
      </p:sp>
      <p:sp>
        <p:nvSpPr>
          <p:cNvPr id="119"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pic, as I am working in a practice where vision therapy was long established before I joined…but</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ometrist vs. vision therapist for vision therapy.</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therapist – can be anyone, preferably a person who has a background of working with children, and has patience, empathy, perseverance, and persuasion.  Can be accredited, but must work in conjunction with a fellow and must have fulfil professional development points/hours.  </a:t>
            </a:r>
            <a:endParaRPr b="0" lang="en-US" sz="20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vision therapy to be economically feasible – the optometrist is responsible for planning and troubleshooting a programme, though the hands-on therapy is conducted by the therapist. </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ptometrist can therefore have more time to evaluate and consult patients, therefore increasing revenue.</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other alternative is group therapy – which lessens the feeling that there is something wrong with the child, though the child may not gain as much feedback from the therapist compared to one on one sessions.</a:t>
            </a:r>
            <a:endParaRPr b="0" lang="en-US" sz="18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ity of care – what happens if there are multiple therapists in a given practice? Or multiple optometri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196640"/>
            <a:ext cx="8229600" cy="5111640"/>
          </a:xfrm>
          <a:prstGeom prst="rect">
            <a:avLst/>
          </a:prstGeom>
          <a:noFill/>
          <a:ln w="0">
            <a:noFill/>
          </a:ln>
        </p:spPr>
        <p:txBody>
          <a:bodyPr lIns="90000" rIns="90000" tIns="46800" bIns="46800" anchor="t">
            <a:normAutofit/>
          </a:bodyPr>
          <a:p>
            <a:pPr marL="343080" indent="-343080">
              <a:lnSpc>
                <a:spcPct val="80000"/>
              </a:lnSpc>
              <a:spcBef>
                <a:spcPts val="4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Vision therapists can be trained in other areas, such as pretesting.  This can shorten appointment times with the optometrist; the optometrist can see more patients, and increase revenue.</a:t>
            </a:r>
            <a:endParaRPr b="0" lang="en-US" sz="1900" spc="-1" strike="noStrike">
              <a:solidFill>
                <a:srgbClr val="000000"/>
              </a:solidFill>
              <a:latin typeface="Arial"/>
            </a:endParaRPr>
          </a:p>
          <a:p>
            <a:pPr marL="343080" indent="-343080">
              <a:lnSpc>
                <a:spcPct val="80000"/>
              </a:lnSpc>
              <a:spcBef>
                <a:spcPts val="4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Vision therapists may not be specifically trained in aspects of accommodation/convergence, strabismus and amblyopia and thus may have difficulty in understanding the diagnosis and why a particular activity is used for a particular patient.  If the optometrist is conducting therapy, their training/knowledge enables them better understand the patient’s condition, and can change the direction a particular activity takes.</a:t>
            </a:r>
            <a:endParaRPr b="0" lang="en-US" sz="1900" spc="-1" strike="noStrike">
              <a:solidFill>
                <a:srgbClr val="000000"/>
              </a:solidFill>
              <a:latin typeface="Arial"/>
            </a:endParaRPr>
          </a:p>
          <a:p>
            <a:pPr lvl="1" marL="743040" indent="-285840">
              <a:lnSpc>
                <a:spcPct val="80000"/>
              </a:lnSpc>
              <a:spcBef>
                <a:spcPts val="476"/>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An example can include what to do if a patient cannot keep vectograms single.</a:t>
            </a:r>
            <a:endParaRPr b="0" lang="en-US" sz="1900" spc="-1" strike="noStrike">
              <a:solidFill>
                <a:srgbClr val="000000"/>
              </a:solidFill>
              <a:latin typeface="Arial"/>
            </a:endParaRPr>
          </a:p>
          <a:p>
            <a:pPr marL="343080" indent="-343080">
              <a:lnSpc>
                <a:spcPct val="80000"/>
              </a:lnSpc>
              <a:spcBef>
                <a:spcPts val="4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Vision therapist disadvantages – difficulties can arise from finding a suitable assistant/therapist, as not everyone is suitable for every job.  The appropriate individual not only has to be liked by patients, but also other members of staff.</a:t>
            </a:r>
            <a:endParaRPr b="0" lang="en-US" sz="1900" spc="-1" strike="noStrike">
              <a:solidFill>
                <a:srgbClr val="000000"/>
              </a:solidFill>
              <a:latin typeface="Arial"/>
            </a:endParaRPr>
          </a:p>
          <a:p>
            <a:pPr marL="343080" indent="-343080">
              <a:lnSpc>
                <a:spcPct val="80000"/>
              </a:lnSpc>
              <a:spcBef>
                <a:spcPts val="476"/>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Vision therapist disadvantages – like all members of staff, they require a salary.  If a practice does not have a high turnover rate of patients, it may not be viable to employ a vision therapist as the optometrist may be able to schedule therapy patients in their appointment book.</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800" spc="-1" strike="noStrike">
                <a:solidFill>
                  <a:srgbClr val="000000"/>
                </a:solidFill>
                <a:latin typeface="Arial"/>
              </a:rPr>
              <a:t>TJ, dob 25/08/04</a:t>
            </a:r>
            <a:endParaRPr b="0" lang="en-US" sz="3800" spc="-1" strike="noStrike">
              <a:solidFill>
                <a:srgbClr val="000000"/>
              </a:solidFill>
              <a:latin typeface="Arial"/>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C: TJs mother had brought him for a second opinion on recommendation by family friend optometrist.</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reviously managed by ophthalmologist, it was suggested TJ have surgery for his turned eye as there has been 8 months of unsuccessful spectacle wear.  TJ is reported to have broken several (3) pairs of glasses, and constantly takes them off.</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trabismus noticed for the past 8 months; the majority of the time (80%) the right eye is noticed to turn “in”.  It is reported that the strabismus is most noticeable when TJ is tired. </a:t>
            </a:r>
            <a:endParaRPr b="0" lang="en-US" sz="2400" spc="-1" strike="noStrike">
              <a:solidFill>
                <a:srgbClr val="000000"/>
              </a:solidFill>
              <a:latin typeface="Arial"/>
            </a:endParaRPr>
          </a:p>
          <a:p>
            <a:pPr marL="343080" indent="-343080">
              <a:lnSpc>
                <a:spcPct val="80000"/>
              </a:lnSpc>
              <a:spcBef>
                <a:spcPts val="6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s the strabismus was noticed quite suddenly, an MRI was organised which did not find any abnormal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amily History: there is no reported family history of strabismus or amblyopia.</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 Health: TJ is in good health and is not on any medications.</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evelopmental history: compared to his twin, TJ was reported to be delayed, not only in walking and talking, but also socialising aspects in 3 year old kindergarten. </a:t>
            </a:r>
            <a:endParaRPr b="0" lang="en-US" sz="2800" spc="-1" strike="noStrike">
              <a:solidFill>
                <a:srgbClr val="000000"/>
              </a:solidFill>
              <a:latin typeface="Arial"/>
            </a:endParaRPr>
          </a:p>
          <a:p>
            <a:pPr marL="343080" indent="-3430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urrent spectacle prescription: R) +3.00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L) plan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Diagnostic information</a:t>
            </a:r>
            <a:endParaRPr b="0" lang="en-US" sz="3800" spc="-1" strike="noStrike">
              <a:solidFill>
                <a:srgbClr val="000000"/>
              </a:solidFill>
              <a:latin typeface="Arial"/>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Distance vision: R) 3/6 and L) 3/3 measured with Kay Picture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Excursions – full. No alphabet patterns seen. </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Cover Test distance – 20</a:t>
            </a:r>
            <a:r>
              <a:rPr b="0" lang="en-AU" sz="2200" spc="-1" strike="noStrike" baseline="30000">
                <a:solidFill>
                  <a:srgbClr val="000000"/>
                </a:solidFill>
                <a:latin typeface="Arial"/>
                <a:ea typeface="Arial"/>
              </a:rPr>
              <a:t>∆ </a:t>
            </a:r>
            <a:r>
              <a:rPr b="0" lang="en-AU" sz="2200" spc="-1" strike="noStrike">
                <a:solidFill>
                  <a:srgbClr val="000000"/>
                </a:solidFill>
                <a:latin typeface="Arial"/>
                <a:ea typeface="Arial"/>
              </a:rPr>
              <a:t>right constant comitant esotropia.</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Cover Test near - 30 </a:t>
            </a:r>
            <a:r>
              <a:rPr b="0" lang="en-AU" sz="2200" spc="-1" strike="noStrike" baseline="30000">
                <a:solidFill>
                  <a:srgbClr val="000000"/>
                </a:solidFill>
                <a:latin typeface="Arial"/>
                <a:ea typeface="Arial"/>
              </a:rPr>
              <a:t>∆ </a:t>
            </a:r>
            <a:r>
              <a:rPr b="0" lang="en-AU" sz="2200" spc="-1" strike="noStrike">
                <a:solidFill>
                  <a:srgbClr val="000000"/>
                </a:solidFill>
                <a:latin typeface="Arial"/>
                <a:ea typeface="Arial"/>
              </a:rPr>
              <a:t>right constant comitant esotropia.</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Stereopsis – No fly, no animal, no random dot</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Pupils – direct √ consensual √ Marcus Gunn -ve</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Ishihara - passed</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Dry Distance retinoscopy (not over his rx) –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	</a:t>
            </a:r>
            <a:r>
              <a:rPr b="0" lang="en-AU" sz="2200" spc="-1" strike="noStrike">
                <a:solidFill>
                  <a:srgbClr val="000000"/>
                </a:solidFill>
                <a:latin typeface="Arial"/>
                <a:ea typeface="Arial"/>
              </a:rPr>
              <a:t>R) +2.50 L) +2.00</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MEM retinoscopy – R) +2.00 L) +1.75</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Cycloplegic retinoscopy – R) +3.75 / -0.50 x 180 and</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	</a:t>
            </a:r>
            <a:r>
              <a:rPr b="0" lang="en-AU" sz="2200" spc="-1" strike="noStrike">
                <a:solidFill>
                  <a:srgbClr val="000000"/>
                </a:solidFill>
                <a:latin typeface="Arial"/>
                <a:ea typeface="Arial"/>
              </a:rPr>
              <a:t>L) +3.75DS</a:t>
            </a:r>
            <a:endParaRPr b="0" lang="en-US" sz="2200" spc="-1" strike="noStrike">
              <a:solidFill>
                <a:srgbClr val="000000"/>
              </a:solidFill>
              <a:latin typeface="Arial"/>
            </a:endParaRPr>
          </a:p>
          <a:p>
            <a:pPr marL="343080" indent="-343080">
              <a:lnSpc>
                <a:spcPct val="80000"/>
              </a:lnSpc>
              <a:spcBef>
                <a:spcPts val="55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Arial"/>
              </a:rPr>
              <a:t>Internal ocular examination - N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585000" indent="-58500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fferential Diagnosis – </a:t>
            </a:r>
            <a:endParaRPr b="0" lang="en-US" sz="20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Infantile esotropia</a:t>
            </a:r>
            <a:endParaRPr b="0" lang="en-US" sz="19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Accommodative esotropia</a:t>
            </a:r>
            <a:endParaRPr b="0" lang="en-US" sz="19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Duanes syndrome</a:t>
            </a:r>
            <a:endParaRPr b="0" lang="en-US" sz="19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Epicanthal folds</a:t>
            </a:r>
            <a:endParaRPr b="0" lang="en-US" sz="19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Esotropia caused by organic lesions – cataract, retinoblastoma, toxoplasmosis at the fovea etc</a:t>
            </a:r>
            <a:endParaRPr b="0" lang="en-US" sz="1900" spc="-1" strike="noStrike">
              <a:solidFill>
                <a:srgbClr val="000000"/>
              </a:solidFill>
              <a:latin typeface="Arial"/>
            </a:endParaRPr>
          </a:p>
          <a:p>
            <a:pPr lvl="1" marL="932760" indent="-493560">
              <a:lnSpc>
                <a:spcPct val="80000"/>
              </a:lnSpc>
              <a:spcBef>
                <a:spcPts val="476"/>
              </a:spcBef>
              <a:buClr>
                <a:srgbClr val="ccccff"/>
              </a:buClr>
              <a:buSzPct val="7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0000"/>
                </a:solidFill>
                <a:latin typeface="Arial"/>
              </a:rPr>
              <a:t>Nystagmus blockage syndrome? (von Noorden 1976)</a:t>
            </a:r>
            <a:endParaRPr b="0" lang="en-US" sz="1900" spc="-1" strike="noStrike">
              <a:solidFill>
                <a:srgbClr val="000000"/>
              </a:solidFill>
              <a:latin typeface="Arial"/>
            </a:endParaRPr>
          </a:p>
          <a:p>
            <a:pPr marL="585000" indent="-58500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iagnosis – right constant convergence excess type esotropia. </a:t>
            </a:r>
            <a:endParaRPr b="0" lang="en-US" sz="2000" spc="-1" strike="noStrike">
              <a:solidFill>
                <a:srgbClr val="000000"/>
              </a:solidFill>
              <a:latin typeface="Arial"/>
            </a:endParaRPr>
          </a:p>
          <a:p>
            <a:pPr marL="585000" indent="-58500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Management: +3.75DS right and left for full time wear, review in 6 weeks.  Recommended TJ’s twin to have her eyes tested as she is at a higher risk of having a strabismus. </a:t>
            </a:r>
            <a:endParaRPr b="0" lang="en-US" sz="2000" spc="-1" strike="noStrike">
              <a:solidFill>
                <a:srgbClr val="000000"/>
              </a:solidFill>
              <a:latin typeface="Arial"/>
            </a:endParaRPr>
          </a:p>
          <a:p>
            <a:pPr lvl="1" marL="932760" indent="-493560">
              <a:lnSpc>
                <a:spcPct val="80000"/>
              </a:lnSpc>
              <a:spcBef>
                <a:spcPts val="451"/>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urell and Norsell 1990) – if 1 parent or sibling has ET than 17% chance of child getting ET and 38% chance of being &gt;+4.00DS at 1 year.</a:t>
            </a:r>
            <a:endParaRPr b="0" lang="en-US" sz="1800" spc="-1" strike="noStrike">
              <a:solidFill>
                <a:srgbClr val="000000"/>
              </a:solidFill>
              <a:latin typeface="Arial"/>
            </a:endParaRPr>
          </a:p>
          <a:p>
            <a:pPr lvl="1" marL="932760" indent="-493560">
              <a:lnSpc>
                <a:spcPct val="80000"/>
              </a:lnSpc>
              <a:spcBef>
                <a:spcPts val="451"/>
              </a:spcBef>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 manuscript draft of a journal of the AOA showed up to 70% of optometrists do not prescribe the full cycloplegic correction when managing accommodative esotropi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68360" y="1341000"/>
            <a:ext cx="8229600" cy="51498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view 1 – TJ going well with his glasses; mother is particularly impressed regarding the care of his spectacles.</a:t>
            </a:r>
            <a:endParaRPr b="0" lang="en-US" sz="18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istance visual acuity – R)  3/4.5 L) 3/3 with Kay pictures. </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istance retinoscopy over rx R) +0.50/ -0.50 x 90 an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L) plano.</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r Test distance – ortho</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r Test near – 20PD right constant esotropia.</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ereopsis – no fly, animal, or random dot</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M retinoscopy over rx R) +1.00 / -0.50 x 90 L) +0.50</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view advised for 4 weeks.</a:t>
            </a:r>
            <a:endParaRPr b="0" lang="en-US" sz="16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view 2 – Glasses still going well, though esotropia is still noticed sometimes.</a:t>
            </a:r>
            <a:endParaRPr b="0" lang="en-US" sz="18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istance visual acuity – 6/12 OU with Lea</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Distance retinoscopy over rx R) +0.50 / -0.50 x 90 L) plano</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over Tests – as previous</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EM retinoscopy – as previous</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tereopsis – as previous</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anagement – prescribed multifocal R) +4.25 / -0.50 x 90 L ) +3.75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Add +2.00 DS for better control of strabismus at near.</a:t>
            </a:r>
            <a:endParaRPr b="0" lang="en-US" sz="1600" spc="-1" strike="noStrike">
              <a:solidFill>
                <a:srgbClr val="000000"/>
              </a:solidFill>
              <a:latin typeface="Arial"/>
            </a:endParaRPr>
          </a:p>
          <a:p>
            <a:pPr lvl="1" marL="743040" indent="-285840">
              <a:lnSpc>
                <a:spcPct val="80000"/>
              </a:lnSpc>
              <a:spcBef>
                <a:spcPts val="400"/>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Review 8 weeks (as multifocals would take 2 weeks to be mad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urrent Rx – R) +4.25 / -0.50 x 90</a:t>
            </a:r>
            <a:br>
              <a:rPr sz="3400"/>
            </a:br>
            <a:r>
              <a:rPr b="0" lang="en-US" sz="3400" spc="-1" strike="noStrike">
                <a:solidFill>
                  <a:srgbClr val="000000"/>
                </a:solidFill>
                <a:latin typeface="Arial"/>
              </a:rPr>
              <a:t>L) +3.75, addition of +2.00</a:t>
            </a:r>
            <a:endParaRPr b="0" lang="en-US" sz="34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test review 10/11/08</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ed for review and also because have had a few falls from his bicycle, and has scratched the left lens. </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 distance R) 6/9.5 L) 6/9.5 with Lea</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test distance – ortho</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test near – 15 PD right constant esotropia</a:t>
            </a:r>
            <a:endParaRPr b="0" lang="en-US" sz="18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ance retinoscopy over spectacles</a:t>
            </a:r>
            <a:endParaRPr b="0" lang="en-US" sz="1800" spc="-1" strike="noStrike">
              <a:solidFill>
                <a:srgbClr val="000000"/>
              </a:solidFill>
              <a:latin typeface="Arial"/>
            </a:endParaRPr>
          </a:p>
          <a:p>
            <a:pPr lvl="2" marL="1143000" indent="-228600">
              <a:lnSpc>
                <a:spcPct val="80000"/>
              </a:lnSpc>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 +0.25 L) +0.25</a:t>
            </a:r>
            <a:endParaRPr b="0" lang="en-US" sz="16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TJ needed new lenses, an increase in the addition was warranted for better control of the strabismus at near.</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M retinoscopy over R) +7.00 / -0.50 x 90 L)+6.50</a:t>
            </a:r>
            <a:endParaRPr b="0" lang="en-US" sz="1800" spc="-1" strike="noStrike">
              <a:solidFill>
                <a:srgbClr val="000000"/>
              </a:solidFill>
              <a:latin typeface="Arial"/>
            </a:endParaRPr>
          </a:p>
          <a:p>
            <a:pPr lvl="2" marL="1143000" indent="-228600">
              <a:lnSpc>
                <a:spcPct val="80000"/>
              </a:lnSpc>
              <a:spcBef>
                <a:spcPts val="400"/>
              </a:spcBef>
              <a:buClr>
                <a:srgbClr val="cc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00 Right and left</a:t>
            </a:r>
            <a:endParaRPr b="0" lang="en-US" sz="16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ver test at near in trial frame – appears ortho</a:t>
            </a:r>
            <a:endParaRPr b="0" lang="en-US" sz="1800" spc="-1" strike="noStrike">
              <a:solidFill>
                <a:srgbClr val="000000"/>
              </a:solidFill>
              <a:latin typeface="Arial"/>
            </a:endParaRPr>
          </a:p>
          <a:p>
            <a:pPr marL="343080" indent="-343080">
              <a:lnSpc>
                <a:spcPct val="8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prescribed R) +4.50 / -0.50 x 90 L) +4.0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dd +2.50</a:t>
            </a:r>
            <a:endParaRPr b="0" lang="en-US" sz="2000" spc="-1" strike="noStrike">
              <a:solidFill>
                <a:srgbClr val="000000"/>
              </a:solidFill>
              <a:latin typeface="Arial"/>
            </a:endParaRPr>
          </a:p>
          <a:p>
            <a:pPr lvl="1" marL="743040" indent="-285840">
              <a:lnSpc>
                <a:spcPct val="80000"/>
              </a:lnSpc>
              <a:spcBef>
                <a:spcPts val="451"/>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7 week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Future considerations?</a:t>
            </a:r>
            <a:endParaRPr b="0" lang="en-US" sz="3800" spc="-1" strike="noStrike">
              <a:solidFill>
                <a:srgbClr val="000000"/>
              </a:solidFill>
              <a:latin typeface="Arial"/>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th 4 Dot test – to assess if TJ is binocular at distance</a:t>
            </a:r>
            <a:endParaRPr b="0" lang="en-US" sz="2800" spc="-1" strike="noStrike">
              <a:solidFill>
                <a:srgbClr val="000000"/>
              </a:solidFill>
              <a:latin typeface="Arial"/>
            </a:endParaRPr>
          </a:p>
          <a:p>
            <a:pPr marL="339480" indent="-33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crease addition?</a:t>
            </a:r>
            <a:endParaRPr b="0" lang="en-US" sz="2800" spc="-1" strike="noStrike">
              <a:solidFill>
                <a:srgbClr val="000000"/>
              </a:solidFill>
              <a:latin typeface="Arial"/>
            </a:endParaRPr>
          </a:p>
          <a:p>
            <a:pPr marL="339480" indent="-33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g? Acuities are equal.</a:t>
            </a:r>
            <a:endParaRPr b="0" lang="en-US" sz="2800" spc="-1" strike="noStrike">
              <a:solidFill>
                <a:srgbClr val="000000"/>
              </a:solidFill>
              <a:latin typeface="Arial"/>
            </a:endParaRPr>
          </a:p>
          <a:p>
            <a:pPr marL="339480" indent="-33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i-nasal occlusion and base out prism can be used to extend the centration point – the point at which the visual axes of the eyes overlap.  Aim is to gradually extend this outwards. But prism adaptation? Cosmesis?</a:t>
            </a:r>
            <a:endParaRPr b="0" lang="en-US" sz="2800" spc="-1" strike="noStrike">
              <a:solidFill>
                <a:srgbClr val="000000"/>
              </a:solidFill>
              <a:latin typeface="Arial"/>
            </a:endParaRPr>
          </a:p>
          <a:p>
            <a:pPr marL="339480" indent="-339480">
              <a:lnSpc>
                <a:spcPct val="8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urgery? This is probably unlikely as there is good acuity and TJ’s eyes appear straight in the dist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Vision therapy</a:t>
            </a: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ase 2 – Gross motor foundations.  Activities may include Angels in the snow, Cross pattern creeping and Marsden ball activities.  These activities aim to develop body bilateral development, which are important in the sequencing of binocular ocular dominance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ase 3 – Monocular skills of the strabismic eye are developed to match the non-strabismic eye.  These skills include spatial awareness, eye-hand localisation and accommodation. E.g. spatial matching.</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ase 4 – MFBF – monocular fixation in a binocular field activities act to reverse the normal adaptive pattern in which the fixating eye is more weighted toward central processing, compared to the input of the amblyopic eye (Press, 1997).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ase 5 – Biocular – biocular activities such as anaglyphic TV trainer and the Kraskin squinchel technique, promotes simultaneous perception of right and left images without superimposition. </a:t>
            </a:r>
            <a:endParaRPr b="0" lang="en-US" sz="1800" spc="-1" strike="noStrike">
              <a:solidFill>
                <a:srgbClr val="000000"/>
              </a:solidFill>
              <a:latin typeface="Arial"/>
            </a:endParaRPr>
          </a:p>
          <a:p>
            <a:pPr marL="343080" indent="-343080">
              <a:lnSpc>
                <a:spcPct val="80000"/>
              </a:lnSpc>
              <a:spcBef>
                <a:spcPts val="45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hase 5 – Binocular – this phase of therapy challenges and teams the eyes in everyday situations where sensory input is equal.  Other levels of fusion, such as superimposition, flat fusion and stereopsis are developed in this phase with the use of activities such as Brock string and cheiroscopic projec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7T12:57:42Z</dcterms:created>
  <dc:creator>danny</dc:creator>
  <dc:description/>
  <dc:language>en-US</dc:language>
  <cp:lastModifiedBy>danny</cp:lastModifiedBy>
  <dcterms:modified xsi:type="dcterms:W3CDTF">2008-11-13T15:05:56Z</dcterms:modified>
  <cp:revision>107</cp:revision>
  <dc:subject/>
  <dc:title>OPTM7203 Behavioural Optometry Module 2</dc:title>
</cp:coreProperties>
</file>