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4362-E622-4205-A703-2ADAECF36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9E3F-DA03-4CB9-9B10-0B794850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1D1-A059-4AF8-B23D-BA4363D92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06E6-13E2-4627-89FE-C8005C584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C93F-F497-4DA0-A3ED-21A55B5A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4F30-36C3-4821-BA5B-1F724422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1D14-1A48-4882-9BEB-964DE468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E60D-3BE9-4B69-9D69-B9EF969E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1CBBC-EE6C-4F7D-8553-93A9DF89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9337B-8D98-48A8-8922-BC5BCCC1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8F59-BCE5-40A4-8E2D-C92E1604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CD2-21BA-4A7B-92C0-ABF50DD4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974BA-1C96-40DA-9E80-C1A436C6B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9F7AD-7421-4B76-9681-2820CF28E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490B4-6680-46CA-92E6-748851FDB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D43E-A1B4-4360-8191-67799F04B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BE0E-72EB-4F02-BC3E-0EEA5154B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6BEC-6E0E-46CE-97CD-A77E57B9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0056-2C56-4880-A25F-FCE08B7CE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DC83-37B3-4399-8DDA-E3F4B6881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CADE-36BC-4C4C-99EE-9CC16447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A4D0-A75A-465C-A942-9212605E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0525-97DA-4241-BC6F-14F2E0AC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9850-027C-4AB6-9030-BDE64B68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6FB0B-3A63-49EF-AE2E-E28F5ECE5B6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0EE68-F54F-49FE-9671-0118B34A834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TM 7103 Case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 year old Way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9600" y="2602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niel Ch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ouse, MW, Hutter RF, Shiflett R. A normative study of the accommodative lag in elementary schoolchildren.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Am J Optom Physiol Opt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1984;61:693-69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cheiman M, Gallaway M, Coulter R, et al. Prevalence of vision and ocular disease conditions in a clinical pediatric population.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J Am Optom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1996;67:193-2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Porcar E, Nartinez-Palomera A. Prevalence of general dysfunctions in a population of university students.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Optom Vis Sci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1997;74:111-1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Miller NR. In: Walsh FB, and Hoyt WF, eds. </a:t>
            </a:r>
            <a:r>
              <a:rPr b="0" i="1" lang="en-AU" sz="2400" spc="-1" strike="noStrike">
                <a:solidFill>
                  <a:srgbClr val="000000"/>
                </a:solidFill>
                <a:latin typeface="Arial"/>
              </a:rPr>
              <a:t>Clinical neuro-ophthalmology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Ed. Baltimore: Williams &amp; Wilkins, 1969:534-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esenting complaint: general re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Distance vision – distance blur, noticeable in the afternoon /evening, after a hard day’s work.  Morning vision is fine.  This was first noticed 5 years ag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ear vision – always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adaches and sore eyes not experie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Occupation – Lawye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Visual needs – majority of work involves reading, either at the computer or books.  At least 3 hours a day are spent in front of the compu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revious ocular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ast saw optometrist 5 years 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s advised by previous optometrist that he was “short-sighte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bsequently a distance rx was prescri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ever has not worn r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No reports of injuries, surgery or infections to the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History continued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Ocular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, Father and brother myopic and or astigmat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’s Rx – R) -2.50 / -2.00 x 50, L) -2.00 / -1.00 x 65, +2.50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’s Rx – R) -1.50 / -2.50 x 21, L) -1.50 / -1.00 x 90, +2.50a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other’s contact lenses – Focus Night &amp; Day R) -4.50 L) -3.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nty – glaucoma and retinitis pigmen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aunty – retinitis pigmento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history of amblyopia or strabismus within the fam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ed to be well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med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aller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hair skills (tested at 12pm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tance vision R) 6/7.5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L) 6/7.5</a:t>
            </a:r>
            <a:r>
              <a:rPr b="0" lang="en-AU" sz="2400" spc="-1" strike="noStrike" baseline="30000">
                <a:solidFill>
                  <a:srgbClr val="000000"/>
                </a:solidFill>
                <a:latin typeface="Arial"/>
              </a:rPr>
              <a:t>=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B) 6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ear vision R) 6/6 L) 6/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Excursions – f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over test – distance – orthophoric                                   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 near – moderately exopho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PC - ~2cm to bridge of nose, no pain reported and can voluntarily conver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tereopsis – fly, 3 animals and randot demonstr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shihara –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Distance retin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) -0.25 / -0.25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) -0.25 / -0.25 x 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Blur Fun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78920" y="1412640"/>
            <a:ext cx="25923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lur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0.75 – 6/15, 6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0.50– 6/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+0.25– 6/9.5, 6/7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lano – 6/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-0.25 –  6/4.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Balanced to pla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ight and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1666800"/>
            <a:ext cx="6731280" cy="50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commodation and convergence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phoria : 8 exoph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1.00 – 10 exoph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.00 – 6 exoph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2.00 – 12 exophoria (slightly blur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2.00 – 4 exophoria cl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ance phoria : 2 exoph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point of accommodation (blurs a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) 11, 11 Diop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) 12, 11 Diop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12, 12 Diop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ies +1.00/-1.00 pass (no difference), -2.00 pass, +2.00 fa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LRD -2.00 @ 6/9.5, both eyes p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Accommodation and convergence..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Vergence r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At near, BO = 20 / 20 / &gt;20 / &gt;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At near, BI = x / x / 15 /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At distance, BO = x / 15 / 20 / 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At distance, BI = x / 15 / 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EM retinosco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R) plano / +0.25 x 1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75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300" spc="-1" strike="noStrike">
                <a:solidFill>
                  <a:srgbClr val="000000"/>
                </a:solidFill>
                <a:latin typeface="Arial"/>
              </a:rPr>
              <a:t>L) plano / +0.25 x 1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ear subjective +0.75 = +0.50 &gt; pl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Differentials and diagnosis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yopia – strong family hi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vergence insu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ccommodation ex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condition whereby a patient has difficulty with all tasks requiring relaxation of accommod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evalence of 1.0% (n=721) over accommodation of 0.50 dioptre (MEM retinoscopy) in schoolchildren (Rouse et al 198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evalence of 2.2% (n=1650) in paediatric population (Scheiman et al 199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evalence of 10.8% (n=65) in a population of university students (Natinez-Palomera 199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Confusion in the literature – accommodative spasm, spasm of near reflex (Miller et al 1969), pseudomyopia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are? 17 cases of accommodative spasm over a 4 years period in clinical practice (Rutstein et al 1988) – used dynamic retinoscopy to assess accommodative respo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ction of uncorrected refractive error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ar R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thoptic vision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5T12:35:50Z</dcterms:created>
  <dc:creator>danny</dc:creator>
  <dc:description/>
  <dc:language>en-US</dc:language>
  <cp:lastModifiedBy>danny</cp:lastModifiedBy>
  <dcterms:modified xsi:type="dcterms:W3CDTF">2008-05-21T15:13:54Z</dcterms:modified>
  <cp:revision>34</cp:revision>
  <dc:subject/>
  <dc:title>OPTM 7103 Case Presentation</dc:title>
</cp:coreProperties>
</file>