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91043-B83F-4258-9CFE-857441DE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5535-1548-46B1-8B6E-EECAFFA3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F080B-6BB6-4683-A435-95AE9DE6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81F3-7EF3-46C4-8A1B-B47EDE2D1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004D-D470-4A26-AB19-82DE1D550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CEC45-3B74-416A-BF4B-303B45D7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B3D4-709A-4989-891D-60A1E4444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4CCA-C4FC-4E17-AFD1-F7F678419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57190-789A-4C5C-A2CF-CF6F5268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5FE26-4B4B-46A2-84EA-DE829B87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A617-2F8E-473A-89CF-CE2065E7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80EEE-4391-4927-A9AD-08552B1B0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BFA7B-1527-4B7F-857D-9A9FCD0A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1C12-DE9F-4F5B-93E9-CE423AB0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B6E08-36DC-4307-9163-9EC40DB15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7DD1B-2DD3-4BD9-A4E5-15FCE8FD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314BD-7343-4DA6-BD9E-EE8B8B69D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B399-3E7D-4A1E-8FF4-0793BC7C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B2BD-6B62-438C-9A8C-CA2024A2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4A28F-BDEB-4214-9C44-EB5D4B61C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327AA-F027-468E-889B-071B5B8B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5B57-7C90-4DFA-B92D-A33C5174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D630F-60FD-4F99-A0EB-337E0F32B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90EBF-2A0D-4737-A033-65402819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894C-6397-4E29-8EE1-4B721A57A9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C4CBC-8727-4F13-B8A5-BEB60664A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5000" spc="-1" strike="noStrike">
                <a:solidFill>
                  <a:srgbClr val="ffffff"/>
                </a:solidFill>
                <a:latin typeface="Palatino Linotype"/>
              </a:rPr>
              <a:t>Macular Hol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339640" y="4266720"/>
            <a:ext cx="6651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Palatino Linotype"/>
              </a:rPr>
              <a:t>655-540 Ocular Disease Manageme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Palatino Linotype"/>
              </a:rPr>
              <a:t>Case Present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Palatino Linotype"/>
              </a:rPr>
              <a:t>Rymon Ger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5280" y="469800"/>
            <a:ext cx="1969920" cy="18669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83000" y="476280"/>
            <a:ext cx="1992240" cy="186696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4886280" y="549360"/>
            <a:ext cx="3630600" cy="18097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4"/>
          <a:stretch/>
        </p:blipFill>
        <p:spPr>
          <a:xfrm>
            <a:off x="468360" y="2930400"/>
            <a:ext cx="3664080" cy="18669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01720" y="227016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1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724360" y="242100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71640" y="493380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4720" y="23414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tage 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4643280" y="2924280"/>
            <a:ext cx="3670560" cy="2670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5943960" y="5661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le Cl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79280" y="6165720"/>
            <a:ext cx="80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*Images sourced from Ataweel M. et al. 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6165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x Presenta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72 yo fem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C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Broke BF’s approx 1/12 a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Recent decease in vision at D &amp; N and distorted objec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changes noticed on amsler gr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H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Last rev. 6/12 (re: macular ho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No history of trauma, infection, or inflam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artial thickness hole, first noted in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rogressed to full thickness (stage 2) in 200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Ophthalmology assessment recommended referral to retinal sub-specialist (end of 2003) – but “Px preferred not to have an opinion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H: N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GH: Hypertension + (controll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8360" y="62064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reliminary tests: N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900000" y="1916280"/>
          <a:ext cx="6119640" cy="1927080"/>
        </p:xfrm>
        <a:graphic>
          <a:graphicData uri="http://schemas.openxmlformats.org/drawingml/2006/table">
            <a:tbl>
              <a:tblPr/>
              <a:tblGrid>
                <a:gridCol w="2357280"/>
                <a:gridCol w="1881360"/>
                <a:gridCol w="1881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 with current R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7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jective R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36 (NIP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/7.5 (NIPH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r 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112" name=""/>
          <p:cNvGrpSpPr/>
          <p:nvPr/>
        </p:nvGrpSpPr>
        <p:grpSpPr>
          <a:xfrm>
            <a:off x="4644720" y="4632120"/>
            <a:ext cx="719280" cy="648000"/>
            <a:chOff x="4644720" y="4632120"/>
            <a:chExt cx="719280" cy="648000"/>
          </a:xfrm>
        </p:grpSpPr>
        <p:sp>
          <p:nvSpPr>
            <p:cNvPr id="113" name=""/>
            <p:cNvSpPr/>
            <p:nvPr/>
          </p:nvSpPr>
          <p:spPr>
            <a:xfrm>
              <a:off x="4645080" y="4632480"/>
              <a:ext cx="71892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67640" y="4899960"/>
              <a:ext cx="93240" cy="83160"/>
            </a:xfrm>
            <a:custGeom>
              <a:avLst/>
              <a:gdLst/>
              <a:ahLst/>
              <a:rect l="l" t="t" r="r" b="b"/>
              <a:pathLst>
                <a:path w="257" h="248">
                  <a:moveTo>
                    <a:pt x="97" y="0"/>
                  </a:moveTo>
                  <a:cubicBezTo>
                    <a:pt x="107" y="1"/>
                    <a:pt x="184" y="1"/>
                    <a:pt x="201" y="24"/>
                  </a:cubicBezTo>
                  <a:cubicBezTo>
                    <a:pt x="220" y="49"/>
                    <a:pt x="222" y="92"/>
                    <a:pt x="241" y="120"/>
                  </a:cubicBezTo>
                  <a:cubicBezTo>
                    <a:pt x="247" y="148"/>
                    <a:pt x="257" y="172"/>
                    <a:pt x="241" y="200"/>
                  </a:cubicBezTo>
                  <a:cubicBezTo>
                    <a:pt x="228" y="223"/>
                    <a:pt x="144" y="240"/>
                    <a:pt x="113" y="248"/>
                  </a:cubicBezTo>
                  <a:cubicBezTo>
                    <a:pt x="48" y="240"/>
                    <a:pt x="22" y="238"/>
                    <a:pt x="1" y="176"/>
                  </a:cubicBezTo>
                  <a:cubicBezTo>
                    <a:pt x="4" y="139"/>
                    <a:pt x="0" y="100"/>
                    <a:pt x="9" y="64"/>
                  </a:cubicBezTo>
                  <a:cubicBezTo>
                    <a:pt x="14" y="43"/>
                    <a:pt x="74" y="12"/>
                    <a:pt x="97" y="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01040" y="479988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897440" y="496800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980240" y="472788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076000" y="477612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4360" y="501624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76000" y="4992120"/>
              <a:ext cx="37800" cy="147960"/>
            </a:xfrm>
            <a:custGeom>
              <a:avLst/>
              <a:gdLst/>
              <a:ahLst/>
              <a:rect l="l" t="t" r="r" b="b"/>
              <a:pathLst>
                <a:path w="72" h="280">
                  <a:moveTo>
                    <a:pt x="48" y="0"/>
                  </a:moveTo>
                  <a:cubicBezTo>
                    <a:pt x="16" y="11"/>
                    <a:pt x="10" y="25"/>
                    <a:pt x="0" y="56"/>
                  </a:cubicBezTo>
                  <a:cubicBezTo>
                    <a:pt x="44" y="85"/>
                    <a:pt x="56" y="88"/>
                    <a:pt x="72" y="136"/>
                  </a:cubicBezTo>
                  <a:cubicBezTo>
                    <a:pt x="65" y="177"/>
                    <a:pt x="62" y="198"/>
                    <a:pt x="40" y="232"/>
                  </a:cubicBezTo>
                  <a:cubicBezTo>
                    <a:pt x="49" y="270"/>
                    <a:pt x="43" y="254"/>
                    <a:pt x="56" y="2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4921200" y="4632120"/>
              <a:ext cx="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21200" y="5112000"/>
              <a:ext cx="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004720" y="4632480"/>
              <a:ext cx="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028480" y="5160240"/>
              <a:ext cx="0" cy="11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00480" y="463248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00480" y="5136480"/>
              <a:ext cx="0" cy="14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95880" y="4632480"/>
              <a:ext cx="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279040" y="463248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820400" y="463248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7880" y="4632480"/>
              <a:ext cx="0" cy="64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644720" y="47286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5124240" y="482436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4645080" y="482436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5124240" y="492012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4645080" y="492012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124240" y="50162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645080" y="501624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5124240" y="511200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645080" y="511200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644720" y="5191200"/>
              <a:ext cx="71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468360" y="1341360"/>
            <a:ext cx="82296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rac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68360" y="4221000"/>
            <a:ext cx="82296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msler defect (RE) – central scotoma with surrounding wavy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040" y="5545080"/>
            <a:ext cx="8229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rnal examination: unremark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1268280"/>
            <a:ext cx="5292720" cy="18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/D 0.3, healthy NRR, IS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rk “brick red” lesion in central macular ~1/3 D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ome yellow deposits seen at base of le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d. ERM overlying le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8400960" y="1582560"/>
            <a:ext cx="230400" cy="249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3780000" y="1557360"/>
            <a:ext cx="230040" cy="2491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3280" y="1251000"/>
            <a:ext cx="41054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/D 0.3, healthy NRR, ISN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ild ERM superior to ma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619200"/>
            <a:ext cx="540036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ydriatic internal ex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5003640" y="3430440"/>
            <a:ext cx="3732480" cy="26625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5075280" y="6164280"/>
            <a:ext cx="1512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Posselt et al.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611280" y="3213000"/>
            <a:ext cx="4095720" cy="31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5280" y="836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ight Stage 3 macular hole and bilateral 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ark red lesion &gt; 400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µm (judged as 1/3 D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Arial"/>
              </a:rPr>
              <a:t>Central 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scotoma on Amsler (not very sensitive for macular ho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atzke test +  (Most useful test for clinician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Drop of 2 lines in VA since last vis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Different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CMO: gradual </a:t>
            </a:r>
            <a:r>
              <a:rPr b="0" lang="en-AU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VA, lighter in colour, usually follows Sx or inflammation (uveitis),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atzke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olar Retinopathy: history viewing solar eclipses. Typically smaller, yellow le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ERM Pseudohole: follows grade 3 ERM (macular pucker), Watzke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entral Serous Retinopathy:  serous retinal detachment, improvement with small hyperopic addition, Watzke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132000" y="2349360"/>
            <a:ext cx="2087640" cy="648000"/>
            <a:chOff x="3132000" y="2349360"/>
            <a:chExt cx="2087640" cy="648000"/>
          </a:xfrm>
        </p:grpSpPr>
        <p:grpSp>
          <p:nvGrpSpPr>
            <p:cNvPr id="154" name=""/>
            <p:cNvGrpSpPr/>
            <p:nvPr/>
          </p:nvGrpSpPr>
          <p:grpSpPr>
            <a:xfrm>
              <a:off x="3852720" y="2349360"/>
              <a:ext cx="647640" cy="647640"/>
              <a:chOff x="3852720" y="2349360"/>
              <a:chExt cx="647640" cy="647640"/>
            </a:xfrm>
          </p:grpSpPr>
          <p:sp>
            <p:nvSpPr>
              <p:cNvPr id="155" name=""/>
              <p:cNvSpPr/>
              <p:nvPr/>
            </p:nvSpPr>
            <p:spPr>
              <a:xfrm>
                <a:off x="3852720" y="2349360"/>
                <a:ext cx="647640" cy="647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" name=""/>
              <p:cNvGrpSpPr/>
              <p:nvPr/>
            </p:nvGrpSpPr>
            <p:grpSpPr>
              <a:xfrm>
                <a:off x="4147920" y="2349360"/>
                <a:ext cx="82080" cy="647640"/>
                <a:chOff x="4147920" y="2349360"/>
                <a:chExt cx="82080" cy="6476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147920" y="2349360"/>
                  <a:ext cx="82080" cy="249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47920" y="2747880"/>
                  <a:ext cx="82080" cy="2491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3132000" y="2349360"/>
              <a:ext cx="647640" cy="648000"/>
              <a:chOff x="3132000" y="2349360"/>
              <a:chExt cx="647640" cy="648000"/>
            </a:xfrm>
          </p:grpSpPr>
          <p:sp>
            <p:nvSpPr>
              <p:cNvPr id="160" name=""/>
              <p:cNvSpPr/>
              <p:nvPr/>
            </p:nvSpPr>
            <p:spPr>
              <a:xfrm>
                <a:off x="3132000" y="2349360"/>
                <a:ext cx="647640" cy="64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203640" y="2349360"/>
                <a:ext cx="71280" cy="64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4572000" y="2349360"/>
              <a:ext cx="647640" cy="648000"/>
              <a:chOff x="4572000" y="2349360"/>
              <a:chExt cx="647640" cy="648000"/>
            </a:xfrm>
          </p:grpSpPr>
          <p:sp>
            <p:nvSpPr>
              <p:cNvPr id="163" name=""/>
              <p:cNvSpPr/>
              <p:nvPr/>
            </p:nvSpPr>
            <p:spPr>
              <a:xfrm>
                <a:off x="4572000" y="2349360"/>
                <a:ext cx="647640" cy="648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05440" y="2349360"/>
                <a:ext cx="71280" cy="648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Referred for ophthalmology assessment and possible surgery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atient advised on importance of specialist care to maintain current vi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itrecto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LM peel and ERM peel (if pres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Gas tampona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Post surg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Px positioned face down for 1-4 weeks for tamponade to produce clos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nitor for accelerated cataract formation – most common post surgical complication ~75% (Lia CC. et al. 200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Close observation of other eye. Approximately 10-12% of px develop same condition in fellow ey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gn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thout surge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pprox 84% of stage 2 holes progress to stage 3 with a decrease in VA of 2+ lines (Hikichi T. et al. 199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ast majority progress further to stage 4 – over 10 years 84% of stage 2 holes reach stage 4 with VA stabilising at 6/60 to 6/120 (Casuso LA. et al. 200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ith surger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Very anatomical success rate with ILM peel is involved – approx 92% of stage 2-4 holes achieve full closure (Lia CC. et al. 2002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igh functional success rate reported.  Best post surgical VA achieved with ILM is peel and cataract extraction – 77% improve 3 VA lines or more (Scott IU. et al. 200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9640" y="2637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E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136520" y="380880"/>
            <a:ext cx="6243840" cy="580068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716360" y="6021000"/>
            <a:ext cx="2448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Altaweel M. et al. 2003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7:49:03Z</dcterms:created>
  <dc:creator>RYM&amp;NAZ</dc:creator>
  <dc:description/>
  <dc:language>en-US</dc:language>
  <cp:lastModifiedBy>RYM&amp;NAZ</cp:lastModifiedBy>
  <dcterms:modified xsi:type="dcterms:W3CDTF">2006-08-24T22:00:18Z</dcterms:modified>
  <cp:revision>51</cp:revision>
  <dc:subject/>
  <dc:title>Macular Ho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